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857-F165-4284-8764-469D6727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ED2-FE8E-452A-BEBC-D1A12E6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B79-EE75-4193-9282-F46865BB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5E6-3328-4A53-A548-801C74C5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AE8B-E9FC-4E32-AA7B-2C25BC04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95B3-A0C2-4A66-B862-27F0F57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9BC-CD0F-4439-AB02-C7A12F6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C9BC-4EF0-4B94-94DB-77F5AA59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B00-E488-4B18-8E1E-A52CF52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937-D2BB-4AC6-9FB2-7BE3CED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04E3-9E30-45C0-83F7-D3303B9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76A-F943-403D-9099-97E3687A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32C-106F-4AD6-82D3-D4B19EA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D74-E75F-465B-BA2E-5CB20C7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EFFA-994C-4F55-A9ED-15746F0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8035-F9CE-44F6-8274-EB03FA1C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90A-8B55-42B4-8766-1A13F1FB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FB0-6954-440D-8DED-2413B19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912-B02B-4355-983F-D27E72F4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4DA-A412-4B96-B6DD-F95A9875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CD7-6D6E-40D9-A7F5-31696C9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375-D83F-4700-8C94-FBE19F8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1C6-9A6E-4B7A-BA98-9A436B5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495-7D25-414F-BFA9-A169A63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210-6C75-4936-931B-08EBE1DBD4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AA2F-C42E-48FC-BFA5-1C1E3B3334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Eras Medium ITC"/>
              </a:rPr>
              <a:t>EL CAMBIO DE ENTROPIA DE SUSTANCIAS PURAS</a:t>
            </a:r>
            <a:r>
              <a:rPr b="0" lang="es-MX" sz="2400" spc="-1" strike="noStrike">
                <a:solidFill>
                  <a:srgbClr val="000000"/>
                </a:solidFill>
                <a:latin typeface="Eras Medium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2860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valor de la entropia en un estado especifico se determina del mismo modo que cualquier otra propiedad.  En las regiones del líquido comprimido y de vapor sobrecalentado, los valores de obtienen directamente de las tablas en el estado especificado. En la región de mezcla saturada se determin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8769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 = 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+ x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fg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[kJ/(kg K)]  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63868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onde x es la calidad y los valores de 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y 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fg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 lista en las tablas de satu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Eras Medium ITC"/>
              </a:rPr>
              <a:t>EL CAMBIO DE ENTROPIA DE SUSTANCIAS PURAS</a:t>
            </a:r>
            <a:r>
              <a:rPr b="0" lang="es-MX" sz="2400" spc="-1" strike="noStrike">
                <a:solidFill>
                  <a:srgbClr val="000000"/>
                </a:solidFill>
                <a:latin typeface="Eras Medium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uando se carece de datos de líquido comprimido, la entropía del líquido comprimido se calcula por medio de la entropía del líquido saturado a la temperatura d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72428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@ P,T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f @ T 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(*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Eras Medium ITC"/>
              </a:rPr>
              <a:t>EL CAMBIO DE ENTROPIA DE SUSTANCIAS PURAS</a:t>
            </a:r>
            <a:r>
              <a:rPr b="0" lang="es-MX" sz="2400" spc="-1" strike="noStrike">
                <a:solidFill>
                  <a:srgbClr val="000000"/>
                </a:solidFill>
                <a:latin typeface="Eras Medium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2096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cambio de entropia de una sustancia pura durante un proceso es simplemente la diferencia entre los valores de entropía en los estados finales e in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733920"/>
            <a:ext cx="64008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 = m (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(kJ/K)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(**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 =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[kJ/(kg K)]    (***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Eras Medium ITC"/>
              </a:rPr>
              <a:t>EL CAMBIO DE ENTROPIA DE SUSTANCIAS PURAS</a:t>
            </a:r>
            <a:r>
              <a:rPr b="0" lang="es-MX" sz="2400" spc="-1" strike="noStrike">
                <a:solidFill>
                  <a:srgbClr val="000000"/>
                </a:solidFill>
                <a:latin typeface="Eras Medium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mage1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06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4:46:32Z</dcterms:created>
  <dc:creator>Cuevas Martinez</dc:creator>
  <dc:description/>
  <dc:language>en-US</dc:language>
  <cp:lastModifiedBy>SIMULACION</cp:lastModifiedBy>
  <dcterms:modified xsi:type="dcterms:W3CDTF">2002-10-29T13:45:08Z</dcterms:modified>
  <cp:revision>9</cp:revision>
  <dc:subject/>
  <dc:title>Presentación de PowerPoint</dc:title>
</cp:coreProperties>
</file>