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2A0-926B-4805-9F0B-D3F4CD27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B10-F172-455C-9948-DC870164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12E-6680-4FEC-857D-2807A978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214-47D2-4F2B-97DF-24F001E5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CC0E-E759-48ED-ADB1-706FCA3A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FCD0-4B07-47D6-8D14-F6F24B6E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E524-BCD6-4356-83AE-37725487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4F69-FD7A-483C-9208-B28D3A9E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A57D-9581-4F42-9B7C-A69C22E4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8285-3649-41A0-AB50-00B044E2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58E7-0D9A-42A7-B066-B716B86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045-F3A6-4AEE-8321-3561316D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B201-66AC-4B8C-AC69-A3A68F39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9540-69A8-4DD6-BDCC-0638629F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5EEE-62C4-4DA2-B4C7-9D970D74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8B56-F335-491C-80B5-33F0D131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F298-6348-408E-82B5-38FCEDA5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237-72ED-40AD-8EA1-83E0A054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398-E0A5-447A-BA64-D3BDD214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E78-F615-4532-B70B-91DB3205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B78-874E-4D70-A995-8A1E1A61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9F0-3082-45DC-98F7-D0889272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94E-B4B6-4B59-BC23-A6E18EED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2EB-0F38-4003-A216-939BDEA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A079-A985-40AB-94A4-DE9509135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F06F-CEC9-4AF6-AF16-12DF62A33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ALANCE DE LA ENTROPIA PARA SISTEMAS CERRADO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l cambio de la entropía es la diferencia entre la entropía inicial y la entropía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l cambio de entropía en sistemas cerrados se debe a la transferencia de entropía que acompañada por la transferencia de calor y la generación de entropía dentro de las fronteras del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Balance de la entropía.                                                                                                    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50880" y="5164920"/>
            <a:ext cx="33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- S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SQ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+ S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gen,sis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66880" y="5333400"/>
            <a:ext cx="53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ymbol"/>
                <a:ea typeface="Symbol"/>
              </a:rPr>
              <a:t>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7280" y="5333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715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l término transferencia  de entropía  puede ser expresado como una suma  cuando se transfiere calor en una cantidad Q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a través de la frontera  a temperatura constante T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2360" y="2178360"/>
            <a:ext cx="32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- S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=       </a:t>
            </a:r>
            <a:r>
              <a:rPr b="0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Q</a:t>
            </a:r>
            <a:r>
              <a:rPr b="0" lang="es-ES_tradnl" sz="1400" spc="-1" strike="noStrike" u="sng">
                <a:solidFill>
                  <a:srgbClr val="ffcc66"/>
                </a:solidFill>
                <a:uFillTx/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 + S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gen 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3360" y="3429000"/>
            <a:ext cx="4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44"/>
              </a:buClr>
              <a:buFont typeface="Symbol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5640" y="2133000"/>
            <a:ext cx="5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8792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oceso adiabático (Q =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Los términos en la relación  anterior se eliminan y el cambio de entropía en el sistema cerrado se vuelve igual a la generación de entropía dentro del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1240" y="4647240"/>
            <a:ext cx="22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cc66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sis adia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= S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gen 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12760" y="5561640"/>
            <a:ext cx="53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gen sis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=  0     Es internamente rever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La entropía total generada dentro de un proceso puede expresarse como:         S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gen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=  S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gen sis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+ S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gen alr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l cambio en la entropía de los alrededores  viene a s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n un proceso adiabático    S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alr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l principio del incremento de la entropía se reduc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La entropía de un proceso cerrado nunca disminuye durante un proceso adiabá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6440" y="2132640"/>
            <a:ext cx="18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cc66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alr 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 =   </a:t>
            </a:r>
            <a:r>
              <a:rPr b="0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Q </a:t>
            </a:r>
            <a:r>
              <a:rPr b="0" lang="es-ES_tradnl" sz="1400" spc="-1" strike="noStrike" u="sng">
                <a:solidFill>
                  <a:srgbClr val="ffcc66"/>
                </a:solidFill>
                <a:uFillTx/>
                <a:latin typeface="Times New Roman"/>
              </a:rPr>
              <a:t>al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6040" y="24372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s-ES_tradnl" sz="1400" spc="-1" strike="noStrike">
                <a:solidFill>
                  <a:srgbClr val="ffcc66"/>
                </a:solidFill>
                <a:latin typeface="Times New Roman"/>
              </a:rPr>
              <a:t>al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05520" y="4266000"/>
            <a:ext cx="43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ge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    S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m (S2- S1) &gt;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5640" y="4266000"/>
            <a:ext cx="4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cc66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23:06:02Z</dcterms:created>
  <dc:creator>Global User.</dc:creator>
  <dc:description/>
  <dc:language>en-US</dc:language>
  <cp:lastModifiedBy>SISTEMAS</cp:lastModifiedBy>
  <dcterms:modified xsi:type="dcterms:W3CDTF">2002-10-22T15:17:39Z</dcterms:modified>
  <cp:revision>1</cp:revision>
  <dc:subject/>
  <dc:title>BALANCE DE LA ENTROPIA PARA SISTEMAS CERRADOS</dc:title>
</cp:coreProperties>
</file>