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82F6-F076-478D-A789-65AEEB543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2DD9-AE5A-47D4-A85D-0F165C62D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713E-9EC9-4EC7-AEFB-2AAE2CB8E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AC2E-D9BE-4B94-9C48-8F0A892E9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6260-AE94-4BA0-8086-A0FAD8928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756C-BA50-4728-B79E-7D2F57CCE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DD21-DDC1-4C4C-B550-CBFDD2F4C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4A8C-3DAA-460F-809A-90B4D9B72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0227-9D78-4D85-8AB9-36081D0A0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5406-D8D8-4857-9103-1B782854D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9711-5382-43A4-8A85-5E4BCECE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2DCC-5E94-4D84-AD0A-084E4484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F7B33-9899-4952-80DD-7C928F1D81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2438280"/>
            <a:ext cx="68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ENTROPIA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iclo de refrigeració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362320" y="2514600"/>
            <a:ext cx="4678560" cy="2668320"/>
            <a:chOff x="2362320" y="2514600"/>
            <a:chExt cx="4678560" cy="2668320"/>
          </a:xfrm>
        </p:grpSpPr>
        <p:sp>
          <p:nvSpPr>
            <p:cNvPr id="131" name=""/>
            <p:cNvSpPr/>
            <p:nvPr/>
          </p:nvSpPr>
          <p:spPr>
            <a:xfrm>
              <a:off x="2438280" y="2514600"/>
              <a:ext cx="3200400" cy="533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362320" y="4495680"/>
              <a:ext cx="3200400" cy="533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276720" y="3429000"/>
              <a:ext cx="144756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09880" y="3505320"/>
              <a:ext cx="3808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2091646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20916466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842440" y="2628000"/>
              <a:ext cx="58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T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945040" y="472320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T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994360" y="3656520"/>
              <a:ext cx="104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Wirre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3581280" y="4114800"/>
            <a:ext cx="990720" cy="5335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81280" y="2895480"/>
            <a:ext cx="990720" cy="5335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48320" y="3352680"/>
            <a:ext cx="914400" cy="838440"/>
          </a:xfrm>
          <a:prstGeom prst="leftArrow">
            <a:avLst>
              <a:gd name="adj1" fmla="val 50000"/>
              <a:gd name="adj2" fmla="val 27265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718440" y="297072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736800" y="411372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" y="2046240"/>
            <a:ext cx="8610480" cy="36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Una maquina térmica recibe 600 kj de una fuente de alta temperatura a 1000 k durante un ciclo. Convierte 150KJ  de ese calor en trabajo neto y de4secha los restantes 450 KJ en un sumidero de baja temperatura a 300 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etermine si la maquina térmica viola al segunda ley de la termodinámica con base: a) la desigualdad de Clausius  b)el principio de Carnnot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tropía : propiedad de un sist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2287800" y="2196720"/>
            <a:ext cx="4489920" cy="3938400"/>
            <a:chOff x="2287800" y="2196720"/>
            <a:chExt cx="4489920" cy="3938400"/>
          </a:xfrm>
        </p:grpSpPr>
        <p:sp>
          <p:nvSpPr>
            <p:cNvPr id="147" name=""/>
            <p:cNvSpPr/>
            <p:nvPr/>
          </p:nvSpPr>
          <p:spPr>
            <a:xfrm>
              <a:off x="3414600" y="2590560"/>
              <a:ext cx="2057400" cy="2361960"/>
            </a:xfrm>
            <a:custGeom>
              <a:avLst/>
              <a:gdLst/>
              <a:ahLst/>
              <a:rect l="l" t="t" r="r" b="b"/>
              <a:pathLst>
                <a:path w="1296" h="1488">
                  <a:moveTo>
                    <a:pt x="1296" y="0"/>
                  </a:moveTo>
                  <a:cubicBezTo>
                    <a:pt x="1188" y="284"/>
                    <a:pt x="1080" y="568"/>
                    <a:pt x="864" y="816"/>
                  </a:cubicBezTo>
                  <a:cubicBezTo>
                    <a:pt x="648" y="1064"/>
                    <a:pt x="136" y="1384"/>
                    <a:pt x="0" y="1488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81440" y="2286000"/>
              <a:ext cx="0" cy="3352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576520" y="5333760"/>
              <a:ext cx="40384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2661600">
              <a:off x="3871440" y="2133720"/>
              <a:ext cx="1152720" cy="32698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3795840" y="3047760"/>
              <a:ext cx="380880" cy="3808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4862520" y="3809880"/>
              <a:ext cx="457200" cy="5331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287800" y="2513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377400" y="56754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171960" y="5103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801040" y="2360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672360" y="26272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262760" y="33512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100840" y="41893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tropía : propiedad de un sist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219320" y="1826280"/>
            <a:ext cx="6973200" cy="2022480"/>
            <a:chOff x="1219320" y="1826280"/>
            <a:chExt cx="6973200" cy="2022480"/>
          </a:xfrm>
        </p:grpSpPr>
        <p:sp>
          <p:nvSpPr>
            <p:cNvPr id="162" name=""/>
            <p:cNvSpPr/>
            <p:nvPr/>
          </p:nvSpPr>
          <p:spPr>
            <a:xfrm>
              <a:off x="2543760" y="2589120"/>
              <a:ext cx="9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  0 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1219320" y="1826280"/>
              <a:ext cx="6973200" cy="2022480"/>
              <a:chOff x="1219320" y="1826280"/>
              <a:chExt cx="6973200" cy="2022480"/>
            </a:xfrm>
          </p:grpSpPr>
          <p:grpSp>
            <p:nvGrpSpPr>
              <p:cNvPr id="164" name=""/>
              <p:cNvGrpSpPr/>
              <p:nvPr/>
            </p:nvGrpSpPr>
            <p:grpSpPr>
              <a:xfrm>
                <a:off x="1219320" y="1826280"/>
                <a:ext cx="2740680" cy="1585800"/>
                <a:chOff x="1219320" y="1826280"/>
                <a:chExt cx="2740680" cy="1585800"/>
              </a:xfrm>
            </p:grpSpPr>
            <p:grpSp>
              <p:nvGrpSpPr>
                <p:cNvPr id="165" name=""/>
                <p:cNvGrpSpPr/>
                <p:nvPr/>
              </p:nvGrpSpPr>
              <p:grpSpPr>
                <a:xfrm>
                  <a:off x="1219320" y="1826280"/>
                  <a:ext cx="2740680" cy="1585800"/>
                  <a:chOff x="1219320" y="1826280"/>
                  <a:chExt cx="2740680" cy="1585800"/>
                </a:xfrm>
              </p:grpSpPr>
              <p:grpSp>
                <p:nvGrpSpPr>
                  <p:cNvPr id="166" name=""/>
                  <p:cNvGrpSpPr/>
                  <p:nvPr/>
                </p:nvGrpSpPr>
                <p:grpSpPr>
                  <a:xfrm>
                    <a:off x="1219320" y="1826280"/>
                    <a:ext cx="1303200" cy="1585800"/>
                    <a:chOff x="1219320" y="1826280"/>
                    <a:chExt cx="1303200" cy="1585800"/>
                  </a:xfrm>
                </p:grpSpPr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1933200" y="1826280"/>
                      <a:ext cx="589320" cy="1557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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Q ---    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1219320" y="2245320"/>
                      <a:ext cx="460080" cy="116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0" h="768">
                          <a:moveTo>
                            <a:pt x="480" y="56"/>
                          </a:moveTo>
                          <a:cubicBezTo>
                            <a:pt x="400" y="28"/>
                            <a:pt x="320" y="0"/>
                            <a:pt x="288" y="104"/>
                          </a:cubicBezTo>
                          <a:cubicBezTo>
                            <a:pt x="256" y="208"/>
                            <a:pt x="336" y="592"/>
                            <a:pt x="288" y="680"/>
                          </a:cubicBezTo>
                          <a:cubicBezTo>
                            <a:pt x="240" y="768"/>
                            <a:pt x="48" y="640"/>
                            <a:pt x="0" y="632"/>
                          </a:cubicBezTo>
                        </a:path>
                      </a:pathLst>
                    </a:custGeom>
                    <a:noFill/>
                    <a:ln w="63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69" name=""/>
                  <p:cNvSpPr/>
                  <p:nvPr/>
                </p:nvSpPr>
                <p:spPr>
                  <a:xfrm>
                    <a:off x="3776400" y="2673720"/>
                    <a:ext cx="183600" cy="457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0" name=""/>
                <p:cNvSpPr/>
                <p:nvPr/>
              </p:nvSpPr>
              <p:spPr>
                <a:xfrm>
                  <a:off x="1372320" y="2680920"/>
                  <a:ext cx="306720" cy="380880"/>
                </a:xfrm>
                <a:prstGeom prst="ellipse">
                  <a:avLst/>
                </a:prstGeom>
                <a:noFill/>
                <a:ln w="63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3429000" y="1902600"/>
                <a:ext cx="2181960" cy="1946160"/>
                <a:chOff x="3429000" y="1902600"/>
                <a:chExt cx="2181960" cy="194616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4367160" y="1902600"/>
                  <a:ext cx="585720" cy="155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1" lang="en-US" sz="2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</a:t>
                  </a: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Q ---    T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3429000" y="2285280"/>
                  <a:ext cx="457200" cy="1166400"/>
                </a:xfrm>
                <a:custGeom>
                  <a:avLst/>
                  <a:gdLst/>
                  <a:ahLst/>
                  <a:rect l="l" t="t" r="r" b="b"/>
                  <a:pathLst>
                    <a:path w="480" h="768">
                      <a:moveTo>
                        <a:pt x="480" y="56"/>
                      </a:moveTo>
                      <a:cubicBezTo>
                        <a:pt x="400" y="28"/>
                        <a:pt x="320" y="0"/>
                        <a:pt x="288" y="104"/>
                      </a:cubicBezTo>
                      <a:cubicBezTo>
                        <a:pt x="256" y="208"/>
                        <a:pt x="336" y="592"/>
                        <a:pt x="288" y="680"/>
                      </a:cubicBezTo>
                      <a:cubicBezTo>
                        <a:pt x="240" y="768"/>
                        <a:pt x="48" y="640"/>
                        <a:pt x="0" y="632"/>
                      </a:cubicBezTo>
                    </a:path>
                  </a:pathLst>
                </a:custGeom>
                <a:noFill/>
                <a:ln w="63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3719520" y="31982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3834000" y="19033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4267080" y="1904760"/>
                  <a:ext cx="228600" cy="1828440"/>
                </a:xfrm>
                <a:custGeom>
                  <a:avLst/>
                  <a:gdLst>
                    <a:gd name="textAreaLeft" fmla="*/ 66960 w 228600"/>
                    <a:gd name="textAreaRight" fmla="*/ 228960 w 228600"/>
                    <a:gd name="textAreaTop" fmla="*/ 75960 h 1828440"/>
                    <a:gd name="textAreaBottom" fmla="*/ 1752480 h 1828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900"/>
                        <a:pt x="0" y="1800"/>
                      </a:cubicBezTo>
                      <a:lnTo>
                        <a:pt x="0" y="19800"/>
                      </a:lnTo>
                      <a:cubicBezTo>
                        <a:pt x="0" y="20700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4724280" y="1904760"/>
                  <a:ext cx="228600" cy="1828440"/>
                </a:xfrm>
                <a:custGeom>
                  <a:avLst/>
                  <a:gdLst>
                    <a:gd name="textAreaLeft" fmla="*/ 0 w 228600"/>
                    <a:gd name="textAreaRight" fmla="*/ 160560 w 228600"/>
                    <a:gd name="textAreaTop" fmla="*/ 75960 h 1828440"/>
                    <a:gd name="textAreaBottom" fmla="*/ 1752480 h 1828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900"/>
                        <a:pt x="21600" y="1800"/>
                      </a:cubicBezTo>
                      <a:lnTo>
                        <a:pt x="21600" y="19800"/>
                      </a:lnTo>
                      <a:cubicBezTo>
                        <a:pt x="21600" y="20700"/>
                        <a:pt x="108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5210640" y="338904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9" name=""/>
              <p:cNvSpPr/>
              <p:nvPr/>
            </p:nvSpPr>
            <p:spPr>
              <a:xfrm>
                <a:off x="5411520" y="2665440"/>
                <a:ext cx="352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6019920" y="1902600"/>
                <a:ext cx="2172600" cy="1946160"/>
                <a:chOff x="6019920" y="1902600"/>
                <a:chExt cx="2172600" cy="194616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6958080" y="1902600"/>
                  <a:ext cx="585720" cy="155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1" lang="en-US" sz="2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</a:t>
                  </a: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Q ---    T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6019920" y="2285280"/>
                  <a:ext cx="457200" cy="1166400"/>
                </a:xfrm>
                <a:custGeom>
                  <a:avLst/>
                  <a:gdLst/>
                  <a:ahLst/>
                  <a:rect l="l" t="t" r="r" b="b"/>
                  <a:pathLst>
                    <a:path w="480" h="768">
                      <a:moveTo>
                        <a:pt x="480" y="56"/>
                      </a:moveTo>
                      <a:cubicBezTo>
                        <a:pt x="400" y="28"/>
                        <a:pt x="320" y="0"/>
                        <a:pt x="288" y="104"/>
                      </a:cubicBezTo>
                      <a:cubicBezTo>
                        <a:pt x="256" y="208"/>
                        <a:pt x="336" y="592"/>
                        <a:pt x="288" y="680"/>
                      </a:cubicBezTo>
                      <a:cubicBezTo>
                        <a:pt x="240" y="768"/>
                        <a:pt x="48" y="640"/>
                        <a:pt x="0" y="632"/>
                      </a:cubicBezTo>
                    </a:path>
                  </a:pathLst>
                </a:custGeom>
                <a:noFill/>
                <a:ln w="63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6310440" y="31982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6424920" y="19033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6858000" y="1904760"/>
                  <a:ext cx="228600" cy="1828440"/>
                </a:xfrm>
                <a:custGeom>
                  <a:avLst/>
                  <a:gdLst>
                    <a:gd name="textAreaLeft" fmla="*/ 66960 w 228600"/>
                    <a:gd name="textAreaRight" fmla="*/ 228960 w 228600"/>
                    <a:gd name="textAreaTop" fmla="*/ 75960 h 1828440"/>
                    <a:gd name="textAreaBottom" fmla="*/ 1752480 h 1828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900"/>
                        <a:pt x="0" y="1800"/>
                      </a:cubicBezTo>
                      <a:lnTo>
                        <a:pt x="0" y="19800"/>
                      </a:lnTo>
                      <a:cubicBezTo>
                        <a:pt x="0" y="20700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7315200" y="1904760"/>
                  <a:ext cx="228600" cy="1828440"/>
                </a:xfrm>
                <a:custGeom>
                  <a:avLst/>
                  <a:gdLst>
                    <a:gd name="textAreaLeft" fmla="*/ 0 w 228600"/>
                    <a:gd name="textAreaRight" fmla="*/ 160560 w 228600"/>
                    <a:gd name="textAreaTop" fmla="*/ 75960 h 1828440"/>
                    <a:gd name="textAreaBottom" fmla="*/ 1752480 h 1828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900"/>
                        <a:pt x="21600" y="1800"/>
                      </a:cubicBezTo>
                      <a:lnTo>
                        <a:pt x="21600" y="19800"/>
                      </a:lnTo>
                      <a:cubicBezTo>
                        <a:pt x="21600" y="20700"/>
                        <a:pt x="108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7809120" y="338904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88" name=""/>
          <p:cNvSpPr/>
          <p:nvPr/>
        </p:nvSpPr>
        <p:spPr>
          <a:xfrm>
            <a:off x="3657600" y="2438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1219320" y="3807360"/>
            <a:ext cx="6973200" cy="2023560"/>
            <a:chOff x="1219320" y="3807360"/>
            <a:chExt cx="6973200" cy="2023560"/>
          </a:xfrm>
        </p:grpSpPr>
        <p:sp>
          <p:nvSpPr>
            <p:cNvPr id="190" name=""/>
            <p:cNvSpPr/>
            <p:nvPr/>
          </p:nvSpPr>
          <p:spPr>
            <a:xfrm>
              <a:off x="2543760" y="4570920"/>
              <a:ext cx="9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  0 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1219320" y="3807360"/>
              <a:ext cx="6973200" cy="2023560"/>
              <a:chOff x="1219320" y="3807360"/>
              <a:chExt cx="6973200" cy="2023560"/>
            </a:xfrm>
          </p:grpSpPr>
          <p:grpSp>
            <p:nvGrpSpPr>
              <p:cNvPr id="192" name=""/>
              <p:cNvGrpSpPr/>
              <p:nvPr/>
            </p:nvGrpSpPr>
            <p:grpSpPr>
              <a:xfrm>
                <a:off x="1219320" y="3807360"/>
                <a:ext cx="2740680" cy="1585800"/>
                <a:chOff x="1219320" y="3807360"/>
                <a:chExt cx="2740680" cy="1585800"/>
              </a:xfrm>
            </p:grpSpPr>
            <p:grpSp>
              <p:nvGrpSpPr>
                <p:cNvPr id="193" name=""/>
                <p:cNvGrpSpPr/>
                <p:nvPr/>
              </p:nvGrpSpPr>
              <p:grpSpPr>
                <a:xfrm>
                  <a:off x="1219320" y="3807360"/>
                  <a:ext cx="2740680" cy="1585800"/>
                  <a:chOff x="1219320" y="3807360"/>
                  <a:chExt cx="2740680" cy="1585800"/>
                </a:xfrm>
              </p:grpSpPr>
              <p:grpSp>
                <p:nvGrpSpPr>
                  <p:cNvPr id="194" name=""/>
                  <p:cNvGrpSpPr/>
                  <p:nvPr/>
                </p:nvGrpSpPr>
                <p:grpSpPr>
                  <a:xfrm>
                    <a:off x="1219320" y="3807360"/>
                    <a:ext cx="1303200" cy="1585800"/>
                    <a:chOff x="1219320" y="3807360"/>
                    <a:chExt cx="1303200" cy="1585800"/>
                  </a:xfrm>
                </p:grpSpPr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1933200" y="3807360"/>
                      <a:ext cx="589320" cy="1557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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Q ---    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1219320" y="4226400"/>
                      <a:ext cx="460080" cy="116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0" h="768">
                          <a:moveTo>
                            <a:pt x="480" y="56"/>
                          </a:moveTo>
                          <a:cubicBezTo>
                            <a:pt x="400" y="28"/>
                            <a:pt x="320" y="0"/>
                            <a:pt x="288" y="104"/>
                          </a:cubicBezTo>
                          <a:cubicBezTo>
                            <a:pt x="256" y="208"/>
                            <a:pt x="336" y="592"/>
                            <a:pt x="288" y="680"/>
                          </a:cubicBezTo>
                          <a:cubicBezTo>
                            <a:pt x="240" y="768"/>
                            <a:pt x="48" y="640"/>
                            <a:pt x="0" y="632"/>
                          </a:cubicBezTo>
                        </a:path>
                      </a:pathLst>
                    </a:custGeom>
                    <a:noFill/>
                    <a:ln w="63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7" name=""/>
                  <p:cNvSpPr/>
                  <p:nvPr/>
                </p:nvSpPr>
                <p:spPr>
                  <a:xfrm>
                    <a:off x="3776400" y="4655160"/>
                    <a:ext cx="183600" cy="457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8" name=""/>
                <p:cNvSpPr/>
                <p:nvPr/>
              </p:nvSpPr>
              <p:spPr>
                <a:xfrm>
                  <a:off x="1372320" y="4662360"/>
                  <a:ext cx="306720" cy="381240"/>
                </a:xfrm>
                <a:prstGeom prst="ellipse">
                  <a:avLst/>
                </a:prstGeom>
                <a:noFill/>
                <a:ln w="63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3429000" y="3884040"/>
                <a:ext cx="2172600" cy="1946880"/>
                <a:chOff x="3429000" y="3884040"/>
                <a:chExt cx="2172600" cy="194688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4367160" y="3884040"/>
                  <a:ext cx="585720" cy="155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1" lang="en-US" sz="2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</a:t>
                  </a: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Q ---    T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3429000" y="4267080"/>
                  <a:ext cx="457200" cy="1166760"/>
                </a:xfrm>
                <a:custGeom>
                  <a:avLst/>
                  <a:gdLst/>
                  <a:ahLst/>
                  <a:rect l="l" t="t" r="r" b="b"/>
                  <a:pathLst>
                    <a:path w="480" h="768">
                      <a:moveTo>
                        <a:pt x="480" y="56"/>
                      </a:moveTo>
                      <a:cubicBezTo>
                        <a:pt x="400" y="28"/>
                        <a:pt x="320" y="0"/>
                        <a:pt x="288" y="104"/>
                      </a:cubicBezTo>
                      <a:cubicBezTo>
                        <a:pt x="256" y="208"/>
                        <a:pt x="336" y="592"/>
                        <a:pt x="288" y="680"/>
                      </a:cubicBezTo>
                      <a:cubicBezTo>
                        <a:pt x="240" y="768"/>
                        <a:pt x="48" y="640"/>
                        <a:pt x="0" y="632"/>
                      </a:cubicBezTo>
                    </a:path>
                  </a:pathLst>
                </a:custGeom>
                <a:noFill/>
                <a:ln w="63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3719520" y="51804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34000" y="38851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4267080" y="3886200"/>
                  <a:ext cx="228600" cy="1828800"/>
                </a:xfrm>
                <a:custGeom>
                  <a:avLst/>
                  <a:gdLst>
                    <a:gd name="textAreaLeft" fmla="*/ 66960 w 228600"/>
                    <a:gd name="textAreaRight" fmla="*/ 228960 w 228600"/>
                    <a:gd name="textAreaTop" fmla="*/ 75960 h 1828800"/>
                    <a:gd name="textAreaBottom" fmla="*/ 1752840 h 1828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900"/>
                        <a:pt x="0" y="1800"/>
                      </a:cubicBezTo>
                      <a:lnTo>
                        <a:pt x="0" y="19800"/>
                      </a:lnTo>
                      <a:cubicBezTo>
                        <a:pt x="0" y="20700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4724280" y="3886200"/>
                  <a:ext cx="228600" cy="1828800"/>
                </a:xfrm>
                <a:custGeom>
                  <a:avLst/>
                  <a:gdLst>
                    <a:gd name="textAreaLeft" fmla="*/ 0 w 228600"/>
                    <a:gd name="textAreaRight" fmla="*/ 160560 w 228600"/>
                    <a:gd name="textAreaTop" fmla="*/ 75960 h 1828800"/>
                    <a:gd name="textAreaBottom" fmla="*/ 1752840 h 1828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900"/>
                        <a:pt x="21600" y="1800"/>
                      </a:cubicBezTo>
                      <a:lnTo>
                        <a:pt x="21600" y="19800"/>
                      </a:lnTo>
                      <a:cubicBezTo>
                        <a:pt x="21600" y="20700"/>
                        <a:pt x="108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5218200" y="537120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7" name=""/>
              <p:cNvSpPr/>
              <p:nvPr/>
            </p:nvSpPr>
            <p:spPr>
              <a:xfrm>
                <a:off x="5411520" y="4647240"/>
                <a:ext cx="352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8" name=""/>
              <p:cNvGrpSpPr/>
              <p:nvPr/>
            </p:nvGrpSpPr>
            <p:grpSpPr>
              <a:xfrm>
                <a:off x="6019920" y="3884040"/>
                <a:ext cx="2172600" cy="1946880"/>
                <a:chOff x="6019920" y="3884040"/>
                <a:chExt cx="2172600" cy="194688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6958080" y="3884040"/>
                  <a:ext cx="585720" cy="155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1" lang="en-US" sz="2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</a:t>
                  </a: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Q ---    T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6019920" y="4267080"/>
                  <a:ext cx="457200" cy="1166760"/>
                </a:xfrm>
                <a:custGeom>
                  <a:avLst/>
                  <a:gdLst/>
                  <a:ahLst/>
                  <a:rect l="l" t="t" r="r" b="b"/>
                  <a:pathLst>
                    <a:path w="480" h="768">
                      <a:moveTo>
                        <a:pt x="480" y="56"/>
                      </a:moveTo>
                      <a:cubicBezTo>
                        <a:pt x="400" y="28"/>
                        <a:pt x="320" y="0"/>
                        <a:pt x="288" y="104"/>
                      </a:cubicBezTo>
                      <a:cubicBezTo>
                        <a:pt x="256" y="208"/>
                        <a:pt x="336" y="592"/>
                        <a:pt x="288" y="680"/>
                      </a:cubicBezTo>
                      <a:cubicBezTo>
                        <a:pt x="240" y="768"/>
                        <a:pt x="48" y="640"/>
                        <a:pt x="0" y="632"/>
                      </a:cubicBezTo>
                    </a:path>
                  </a:pathLst>
                </a:custGeom>
                <a:noFill/>
                <a:ln w="63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6310440" y="51804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424920" y="38851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6858000" y="3886200"/>
                  <a:ext cx="228600" cy="1828800"/>
                </a:xfrm>
                <a:custGeom>
                  <a:avLst/>
                  <a:gdLst>
                    <a:gd name="textAreaLeft" fmla="*/ 66960 w 228600"/>
                    <a:gd name="textAreaRight" fmla="*/ 228960 w 228600"/>
                    <a:gd name="textAreaTop" fmla="*/ 75960 h 1828800"/>
                    <a:gd name="textAreaBottom" fmla="*/ 1752840 h 1828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900"/>
                        <a:pt x="0" y="1800"/>
                      </a:cubicBezTo>
                      <a:lnTo>
                        <a:pt x="0" y="19800"/>
                      </a:lnTo>
                      <a:cubicBezTo>
                        <a:pt x="0" y="20700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315200" y="3886200"/>
                  <a:ext cx="228600" cy="1828800"/>
                </a:xfrm>
                <a:custGeom>
                  <a:avLst/>
                  <a:gdLst>
                    <a:gd name="textAreaLeft" fmla="*/ 0 w 228600"/>
                    <a:gd name="textAreaRight" fmla="*/ 160560 w 228600"/>
                    <a:gd name="textAreaTop" fmla="*/ 75960 h 1828800"/>
                    <a:gd name="textAreaBottom" fmla="*/ 1752840 h 1828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900"/>
                        <a:pt x="21600" y="1800"/>
                      </a:cubicBezTo>
                      <a:lnTo>
                        <a:pt x="21600" y="19800"/>
                      </a:lnTo>
                      <a:cubicBezTo>
                        <a:pt x="21600" y="20700"/>
                        <a:pt x="108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7809120" y="537120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tropía : propiedad de un sist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 entropía se puede definir como una propiedad de una sustancia, de acuerdo con la relac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s =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Q / T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revers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l cambio en la entropía de un sistema cuando sufre un cambio de estado se puede determinar com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4192560" y="5027040"/>
            <a:ext cx="2960280" cy="1557000"/>
            <a:chOff x="4192560" y="5027040"/>
            <a:chExt cx="2960280" cy="1557000"/>
          </a:xfrm>
        </p:grpSpPr>
        <p:sp>
          <p:nvSpPr>
            <p:cNvPr id="219" name=""/>
            <p:cNvSpPr/>
            <p:nvPr/>
          </p:nvSpPr>
          <p:spPr>
            <a:xfrm>
              <a:off x="4192560" y="5667480"/>
              <a:ext cx="20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S2 - S1  =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567120" y="5027040"/>
              <a:ext cx="585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Q ---    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28960" y="5542200"/>
              <a:ext cx="456840" cy="777240"/>
            </a:xfrm>
            <a:custGeom>
              <a:avLst/>
              <a:gdLst/>
              <a:ahLst/>
              <a:rect l="l" t="t" r="r" b="b"/>
              <a:pathLst>
                <a:path w="480" h="768">
                  <a:moveTo>
                    <a:pt x="480" y="56"/>
                  </a:moveTo>
                  <a:cubicBezTo>
                    <a:pt x="400" y="28"/>
                    <a:pt x="320" y="0"/>
                    <a:pt x="288" y="104"/>
                  </a:cubicBezTo>
                  <a:cubicBezTo>
                    <a:pt x="256" y="208"/>
                    <a:pt x="336" y="592"/>
                    <a:pt x="288" y="680"/>
                  </a:cubicBezTo>
                  <a:cubicBezTo>
                    <a:pt x="240" y="768"/>
                    <a:pt x="48" y="640"/>
                    <a:pt x="0" y="632"/>
                  </a:cubicBezTo>
                </a:path>
              </a:pathLst>
            </a:custGeom>
            <a:noFill/>
            <a:ln w="63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919480" y="6073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033600" y="5210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467400" y="5288400"/>
              <a:ext cx="228240" cy="1218240"/>
            </a:xfrm>
            <a:custGeom>
              <a:avLst/>
              <a:gdLst>
                <a:gd name="textAreaLeft" fmla="*/ 66960 w 228240"/>
                <a:gd name="textAreaRight" fmla="*/ 228600 w 228240"/>
                <a:gd name="textAreaTop" fmla="*/ 50760 h 1218240"/>
                <a:gd name="textAreaBottom" fmla="*/ 1167480 h 121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924600" y="5288400"/>
              <a:ext cx="228240" cy="1218240"/>
            </a:xfrm>
            <a:custGeom>
              <a:avLst/>
              <a:gdLst>
                <a:gd name="textAreaLeft" fmla="*/ 0 w 228240"/>
                <a:gd name="textAreaRight" fmla="*/ 160200 w 228240"/>
                <a:gd name="textAreaTop" fmla="*/ 50760 h 1218240"/>
                <a:gd name="textAreaBottom" fmla="*/ 1167480 h 121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80880" y="609480"/>
            <a:ext cx="853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SO ESPECIAL: PROCESO DE TRANSFARENCIA DE CALOR ISOTERMICA, INTERNAMENTE REVER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86000" y="41911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 = Q / To           KJ/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24382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 CAMBIO EN LA ENTROPÌA DE UN SISTEMA  DURANTE EL PROCESO DE TRANSFERENCIA DE CALOR  ISOTERMICO INTERNAMENTE, REVER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80880" y="380880"/>
            <a:ext cx="8077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INCIPIO DEL INCREMENTO DE ENTROPIA PARA SISTEMA CERRA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" y="228600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" y="2209680"/>
            <a:ext cx="8610480" cy="35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 entropía de un sistema cerrado durante un proceso adiabatico aumenta siempre debido a las irrevesibilidades internas. En el limite de proceso adiabatico internamente reversible,  la entropía permanecerá constante.  Los procesos adiabàticos de un sistema cerrado para los que dS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adi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&lt; 0 son físicamente imposi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533520" y="685800"/>
            <a:ext cx="815328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A VARIACION DE LA ENTROPIA DE UN SISTEMA COMPUESTO O AISLADO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5800" y="2057400"/>
            <a:ext cx="784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S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ais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= dS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sis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+ dS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ent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9480" y="4983120"/>
            <a:ext cx="784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S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ais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= dS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sis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+ dS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ent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&gt;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9480" y="3124080"/>
            <a:ext cx="7848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O NO SE TIENE NINGUNA TRANSFERENCIA NI DE MASA NI DE ENERGIA A TRAVES DE SUS FRONTERAS, CUMPLE LA CONDICION DE SER CERRADO Y ADIABAT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2208240" y="1630440"/>
            <a:ext cx="3564000" cy="4267080"/>
          </a:xfrm>
          <a:custGeom>
            <a:avLst/>
            <a:gdLst/>
            <a:ahLst/>
            <a:rect l="l" t="t" r="r" b="b"/>
            <a:pathLst>
              <a:path w="2245" h="2688">
                <a:moveTo>
                  <a:pt x="61" y="269"/>
                </a:moveTo>
                <a:cubicBezTo>
                  <a:pt x="110" y="196"/>
                  <a:pt x="183" y="157"/>
                  <a:pt x="265" y="137"/>
                </a:cubicBezTo>
                <a:cubicBezTo>
                  <a:pt x="301" y="141"/>
                  <a:pt x="337" y="143"/>
                  <a:pt x="373" y="149"/>
                </a:cubicBezTo>
                <a:cubicBezTo>
                  <a:pt x="417" y="156"/>
                  <a:pt x="449" y="186"/>
                  <a:pt x="493" y="197"/>
                </a:cubicBezTo>
                <a:cubicBezTo>
                  <a:pt x="548" y="230"/>
                  <a:pt x="601" y="268"/>
                  <a:pt x="661" y="293"/>
                </a:cubicBezTo>
                <a:cubicBezTo>
                  <a:pt x="684" y="303"/>
                  <a:pt x="733" y="317"/>
                  <a:pt x="733" y="317"/>
                </a:cubicBezTo>
                <a:cubicBezTo>
                  <a:pt x="773" y="313"/>
                  <a:pt x="815" y="318"/>
                  <a:pt x="853" y="305"/>
                </a:cubicBezTo>
                <a:cubicBezTo>
                  <a:pt x="925" y="281"/>
                  <a:pt x="898" y="260"/>
                  <a:pt x="937" y="221"/>
                </a:cubicBezTo>
                <a:cubicBezTo>
                  <a:pt x="988" y="170"/>
                  <a:pt x="1048" y="130"/>
                  <a:pt x="1117" y="113"/>
                </a:cubicBezTo>
                <a:cubicBezTo>
                  <a:pt x="1177" y="65"/>
                  <a:pt x="1234" y="36"/>
                  <a:pt x="1309" y="17"/>
                </a:cubicBezTo>
                <a:cubicBezTo>
                  <a:pt x="1366" y="19"/>
                  <a:pt x="1599" y="0"/>
                  <a:pt x="1705" y="53"/>
                </a:cubicBezTo>
                <a:cubicBezTo>
                  <a:pt x="1775" y="88"/>
                  <a:pt x="1815" y="127"/>
                  <a:pt x="1873" y="185"/>
                </a:cubicBezTo>
                <a:cubicBezTo>
                  <a:pt x="1897" y="209"/>
                  <a:pt x="1931" y="222"/>
                  <a:pt x="1957" y="245"/>
                </a:cubicBezTo>
                <a:cubicBezTo>
                  <a:pt x="1982" y="268"/>
                  <a:pt x="2014" y="287"/>
                  <a:pt x="2029" y="317"/>
                </a:cubicBezTo>
                <a:cubicBezTo>
                  <a:pt x="2037" y="333"/>
                  <a:pt x="2040" y="352"/>
                  <a:pt x="2053" y="365"/>
                </a:cubicBezTo>
                <a:cubicBezTo>
                  <a:pt x="2062" y="374"/>
                  <a:pt x="2077" y="373"/>
                  <a:pt x="2089" y="377"/>
                </a:cubicBezTo>
                <a:cubicBezTo>
                  <a:pt x="2139" y="427"/>
                  <a:pt x="2159" y="503"/>
                  <a:pt x="2185" y="569"/>
                </a:cubicBezTo>
                <a:cubicBezTo>
                  <a:pt x="2192" y="1078"/>
                  <a:pt x="2169" y="1245"/>
                  <a:pt x="2245" y="1625"/>
                </a:cubicBezTo>
                <a:cubicBezTo>
                  <a:pt x="2241" y="1757"/>
                  <a:pt x="2240" y="1889"/>
                  <a:pt x="2233" y="2021"/>
                </a:cubicBezTo>
                <a:cubicBezTo>
                  <a:pt x="2231" y="2053"/>
                  <a:pt x="2184" y="2118"/>
                  <a:pt x="2173" y="2129"/>
                </a:cubicBezTo>
                <a:cubicBezTo>
                  <a:pt x="2149" y="2153"/>
                  <a:pt x="2101" y="2201"/>
                  <a:pt x="2101" y="2201"/>
                </a:cubicBezTo>
                <a:cubicBezTo>
                  <a:pt x="2069" y="2298"/>
                  <a:pt x="2084" y="2403"/>
                  <a:pt x="1969" y="2441"/>
                </a:cubicBezTo>
                <a:cubicBezTo>
                  <a:pt x="1950" y="2447"/>
                  <a:pt x="1929" y="2451"/>
                  <a:pt x="1909" y="2453"/>
                </a:cubicBezTo>
                <a:cubicBezTo>
                  <a:pt x="1857" y="2459"/>
                  <a:pt x="1805" y="2461"/>
                  <a:pt x="1753" y="2465"/>
                </a:cubicBezTo>
                <a:cubicBezTo>
                  <a:pt x="1713" y="2472"/>
                  <a:pt x="1666" y="2465"/>
                  <a:pt x="1633" y="2489"/>
                </a:cubicBezTo>
                <a:cubicBezTo>
                  <a:pt x="1595" y="2516"/>
                  <a:pt x="1570" y="2576"/>
                  <a:pt x="1537" y="2609"/>
                </a:cubicBezTo>
                <a:cubicBezTo>
                  <a:pt x="1489" y="2657"/>
                  <a:pt x="1384" y="2668"/>
                  <a:pt x="1321" y="2681"/>
                </a:cubicBezTo>
                <a:cubicBezTo>
                  <a:pt x="1257" y="2677"/>
                  <a:pt x="1190" y="2688"/>
                  <a:pt x="1129" y="2669"/>
                </a:cubicBezTo>
                <a:cubicBezTo>
                  <a:pt x="1097" y="2659"/>
                  <a:pt x="1057" y="2597"/>
                  <a:pt x="1057" y="2597"/>
                </a:cubicBezTo>
                <a:cubicBezTo>
                  <a:pt x="1036" y="2534"/>
                  <a:pt x="1059" y="2585"/>
                  <a:pt x="1009" y="2525"/>
                </a:cubicBezTo>
                <a:cubicBezTo>
                  <a:pt x="807" y="2282"/>
                  <a:pt x="668" y="2378"/>
                  <a:pt x="289" y="2369"/>
                </a:cubicBezTo>
                <a:cubicBezTo>
                  <a:pt x="273" y="2357"/>
                  <a:pt x="254" y="2348"/>
                  <a:pt x="241" y="2333"/>
                </a:cubicBezTo>
                <a:cubicBezTo>
                  <a:pt x="169" y="2246"/>
                  <a:pt x="303" y="2347"/>
                  <a:pt x="193" y="2273"/>
                </a:cubicBezTo>
                <a:cubicBezTo>
                  <a:pt x="181" y="2037"/>
                  <a:pt x="158" y="1812"/>
                  <a:pt x="205" y="1577"/>
                </a:cubicBezTo>
                <a:cubicBezTo>
                  <a:pt x="201" y="1537"/>
                  <a:pt x="201" y="1496"/>
                  <a:pt x="193" y="1457"/>
                </a:cubicBezTo>
                <a:cubicBezTo>
                  <a:pt x="186" y="1426"/>
                  <a:pt x="130" y="1356"/>
                  <a:pt x="121" y="1337"/>
                </a:cubicBezTo>
                <a:cubicBezTo>
                  <a:pt x="113" y="1321"/>
                  <a:pt x="106" y="1304"/>
                  <a:pt x="97" y="1289"/>
                </a:cubicBezTo>
                <a:cubicBezTo>
                  <a:pt x="82" y="1264"/>
                  <a:pt x="49" y="1217"/>
                  <a:pt x="49" y="1217"/>
                </a:cubicBezTo>
                <a:cubicBezTo>
                  <a:pt x="37" y="1167"/>
                  <a:pt x="17" y="1121"/>
                  <a:pt x="1" y="1073"/>
                </a:cubicBezTo>
                <a:cubicBezTo>
                  <a:pt x="14" y="840"/>
                  <a:pt x="0" y="902"/>
                  <a:pt x="61" y="749"/>
                </a:cubicBezTo>
                <a:cubicBezTo>
                  <a:pt x="81" y="627"/>
                  <a:pt x="87" y="593"/>
                  <a:pt x="73" y="449"/>
                </a:cubicBezTo>
                <a:cubicBezTo>
                  <a:pt x="64" y="356"/>
                  <a:pt x="18" y="354"/>
                  <a:pt x="61" y="269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048120" y="28195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048120" y="487692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952880" y="274284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048120" y="33526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124080" y="3429000"/>
            <a:ext cx="1752840" cy="1634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stema cer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a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48120" y="31240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48120" y="3184560"/>
            <a:ext cx="1904760" cy="1681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86200" y="2514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25909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4647960" y="4343040"/>
            <a:ext cx="6094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029200" y="40384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295280" y="83808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ntera adiabàtica o aisl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447920" y="1295280"/>
            <a:ext cx="9144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666880" y="1905120"/>
            <a:ext cx="3657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ai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si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ent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&gt;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838080" y="2133720"/>
            <a:ext cx="75438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LOS PRINCIPIOS DE INCREMENTO DE ENTROPIA SON ENUNCIADOS DE NATURALEZA DIRECCI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LA ENTROPIA ES UNA PROPIEDAD NO CONSERVATIVA, Y LOS PRINCIPIOS DEL INCREMENTO DE LAENTROPIA SON LEYES NO CONSERVATIV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SE ALCANZA UN ESTADO DE EQUILIB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50520" y="750240"/>
            <a:ext cx="617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LGUNOS PRINCIPIOS PARA TENER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UENTA EN UN 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NTROP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 segunda ley de la termodinámica aplicada a proces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 segunda ley conduce a la entropía propiedad un poco abstracta y de difícil descripción fís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diferencia de la energía la entropía es una propiedad que no se conserv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NTROP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 comprende al estudiar sus aplicaciones en procesos como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bustión en un motor de automóv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friamiento en una taza con caf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cesos químicos que se llevan a cabo                             en nuestros cuerp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 orientará comenzando con un análisis de la desigualdad de Clausius y se continua con el principio de aumento de entropí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533520"/>
            <a:ext cx="830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A DESIGUALDAD DE CLAUSI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1752480"/>
            <a:ext cx="769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828800"/>
            <a:ext cx="853452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 desigualdad de Clausius es una consecuencia de la segunda ley de la termodinám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 valida para todos los ciclos posibles incluyendo maquinas térmicas tanto reversibles como irreversibles y los refrigerado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743200" y="2817360"/>
            <a:ext cx="2514600" cy="1557000"/>
            <a:chOff x="2743200" y="2817360"/>
            <a:chExt cx="2514600" cy="1557000"/>
          </a:xfrm>
        </p:grpSpPr>
        <p:grpSp>
          <p:nvGrpSpPr>
            <p:cNvPr id="50" name=""/>
            <p:cNvGrpSpPr/>
            <p:nvPr/>
          </p:nvGrpSpPr>
          <p:grpSpPr>
            <a:xfrm>
              <a:off x="2743200" y="2817360"/>
              <a:ext cx="2514600" cy="1557000"/>
              <a:chOff x="2743200" y="2817360"/>
              <a:chExt cx="2514600" cy="1557000"/>
            </a:xfrm>
          </p:grpSpPr>
          <p:grpSp>
            <p:nvGrpSpPr>
              <p:cNvPr id="51" name=""/>
              <p:cNvGrpSpPr/>
              <p:nvPr/>
            </p:nvGrpSpPr>
            <p:grpSpPr>
              <a:xfrm>
                <a:off x="2743200" y="2817360"/>
                <a:ext cx="1295280" cy="1557000"/>
                <a:chOff x="2743200" y="2817360"/>
                <a:chExt cx="1295280" cy="155700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3452760" y="2817360"/>
                  <a:ext cx="585720" cy="155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1" lang="en-US" sz="2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</a:t>
                  </a: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Q ---    T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2743200" y="3290760"/>
                  <a:ext cx="457200" cy="990360"/>
                </a:xfrm>
                <a:custGeom>
                  <a:avLst/>
                  <a:gdLst/>
                  <a:ahLst/>
                  <a:rect l="l" t="t" r="r" b="b"/>
                  <a:pathLst>
                    <a:path w="480" h="768">
                      <a:moveTo>
                        <a:pt x="480" y="56"/>
                      </a:moveTo>
                      <a:cubicBezTo>
                        <a:pt x="400" y="28"/>
                        <a:pt x="320" y="0"/>
                        <a:pt x="288" y="104"/>
                      </a:cubicBezTo>
                      <a:cubicBezTo>
                        <a:pt x="256" y="208"/>
                        <a:pt x="336" y="592"/>
                        <a:pt x="288" y="680"/>
                      </a:cubicBezTo>
                      <a:cubicBezTo>
                        <a:pt x="240" y="768"/>
                        <a:pt x="48" y="640"/>
                        <a:pt x="0" y="632"/>
                      </a:cubicBezTo>
                    </a:path>
                  </a:pathLst>
                </a:custGeom>
                <a:noFill/>
                <a:ln w="63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" name=""/>
              <p:cNvSpPr/>
              <p:nvPr/>
            </p:nvSpPr>
            <p:spPr>
              <a:xfrm>
                <a:off x="4114800" y="3534120"/>
                <a:ext cx="1143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&lt;= 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2895480" y="3657600"/>
              <a:ext cx="228600" cy="304920"/>
            </a:xfrm>
            <a:prstGeom prst="ellipse">
              <a:avLst/>
            </a:prstGeom>
            <a:noFill/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457200"/>
            <a:ext cx="8915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66200" y="456480"/>
            <a:ext cx="827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A DESIGUALDAD DE CLAUSI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289400" y="1943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1208520"/>
            <a:ext cx="7848360" cy="45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onsiderando primero el ciclo reversible de una maquina térmica  que trabaja entre fuentes de temperaturas TH y TL (figura) la integral cilclíca de transferencia de calor es mayor que cero entonc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or el hecho  de TH y TL son constantes y de que es un ciclo reversible se deduce qu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048120" y="3429000"/>
            <a:ext cx="4419000" cy="1066320"/>
            <a:chOff x="3048120" y="3429000"/>
            <a:chExt cx="4419000" cy="1066320"/>
          </a:xfrm>
        </p:grpSpPr>
        <p:grpSp>
          <p:nvGrpSpPr>
            <p:cNvPr id="61" name=""/>
            <p:cNvGrpSpPr/>
            <p:nvPr/>
          </p:nvGrpSpPr>
          <p:grpSpPr>
            <a:xfrm>
              <a:off x="3048120" y="3429000"/>
              <a:ext cx="4419000" cy="1066320"/>
              <a:chOff x="3048120" y="3429000"/>
              <a:chExt cx="4419000" cy="1066320"/>
            </a:xfrm>
          </p:grpSpPr>
          <p:sp>
            <p:nvSpPr>
              <p:cNvPr id="62" name=""/>
              <p:cNvSpPr/>
              <p:nvPr/>
            </p:nvSpPr>
            <p:spPr>
              <a:xfrm>
                <a:off x="3805200" y="3758040"/>
                <a:ext cx="3661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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Q =  Q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</a:rPr>
                  <a:t>H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  -  Q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</a:rPr>
                  <a:t>L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  &gt;  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048120" y="3429000"/>
                <a:ext cx="567720" cy="1066320"/>
              </a:xfrm>
              <a:custGeom>
                <a:avLst/>
                <a:gdLst/>
                <a:ahLst/>
                <a:rect l="l" t="t" r="r" b="b"/>
                <a:pathLst>
                  <a:path w="480" h="768">
                    <a:moveTo>
                      <a:pt x="480" y="56"/>
                    </a:moveTo>
                    <a:cubicBezTo>
                      <a:pt x="400" y="28"/>
                      <a:pt x="320" y="0"/>
                      <a:pt x="288" y="104"/>
                    </a:cubicBezTo>
                    <a:cubicBezTo>
                      <a:pt x="256" y="208"/>
                      <a:pt x="336" y="592"/>
                      <a:pt x="288" y="680"/>
                    </a:cubicBezTo>
                    <a:cubicBezTo>
                      <a:pt x="240" y="768"/>
                      <a:pt x="48" y="640"/>
                      <a:pt x="0" y="632"/>
                    </a:cubicBezTo>
                  </a:path>
                </a:pathLst>
              </a:custGeom>
              <a:noFill/>
              <a:ln w="63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3200400" y="3809880"/>
              <a:ext cx="304920" cy="381240"/>
            </a:xfrm>
            <a:prstGeom prst="ellipse">
              <a:avLst/>
            </a:prstGeom>
            <a:noFill/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819520" y="5303160"/>
            <a:ext cx="4203000" cy="1557000"/>
            <a:chOff x="2819520" y="5303160"/>
            <a:chExt cx="4203000" cy="1557000"/>
          </a:xfrm>
        </p:grpSpPr>
        <p:grpSp>
          <p:nvGrpSpPr>
            <p:cNvPr id="66" name=""/>
            <p:cNvGrpSpPr/>
            <p:nvPr/>
          </p:nvGrpSpPr>
          <p:grpSpPr>
            <a:xfrm>
              <a:off x="2819520" y="5303160"/>
              <a:ext cx="4203000" cy="1557000"/>
              <a:chOff x="2819520" y="5303160"/>
              <a:chExt cx="4203000" cy="1557000"/>
            </a:xfrm>
          </p:grpSpPr>
          <p:grpSp>
            <p:nvGrpSpPr>
              <p:cNvPr id="67" name=""/>
              <p:cNvGrpSpPr/>
              <p:nvPr/>
            </p:nvGrpSpPr>
            <p:grpSpPr>
              <a:xfrm>
                <a:off x="2819520" y="5303160"/>
                <a:ext cx="1295280" cy="1557000"/>
                <a:chOff x="2819520" y="5303160"/>
                <a:chExt cx="1295280" cy="155700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3529080" y="5303160"/>
                  <a:ext cx="585720" cy="155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1" lang="en-US" sz="2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</a:t>
                  </a: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Q ---    T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2819520" y="5776920"/>
                  <a:ext cx="457200" cy="990720"/>
                </a:xfrm>
                <a:custGeom>
                  <a:avLst/>
                  <a:gdLst/>
                  <a:ahLst/>
                  <a:rect l="l" t="t" r="r" b="b"/>
                  <a:pathLst>
                    <a:path w="480" h="768">
                      <a:moveTo>
                        <a:pt x="480" y="56"/>
                      </a:moveTo>
                      <a:cubicBezTo>
                        <a:pt x="400" y="28"/>
                        <a:pt x="320" y="0"/>
                        <a:pt x="288" y="104"/>
                      </a:cubicBezTo>
                      <a:cubicBezTo>
                        <a:pt x="256" y="208"/>
                        <a:pt x="336" y="592"/>
                        <a:pt x="288" y="680"/>
                      </a:cubicBezTo>
                      <a:cubicBezTo>
                        <a:pt x="240" y="768"/>
                        <a:pt x="48" y="640"/>
                        <a:pt x="0" y="632"/>
                      </a:cubicBezTo>
                    </a:path>
                  </a:pathLst>
                </a:custGeom>
                <a:noFill/>
                <a:ln w="63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" name=""/>
              <p:cNvSpPr/>
              <p:nvPr/>
            </p:nvSpPr>
            <p:spPr>
              <a:xfrm>
                <a:off x="3884040" y="6104520"/>
                <a:ext cx="3138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=   Q</a:t>
                </a:r>
                <a:r>
                  <a:rPr b="0" lang="es-ES_tradnl" sz="1600" spc="-1" strike="noStrike">
                    <a:solidFill>
                      <a:srgbClr val="ffffff"/>
                    </a:solidFill>
                    <a:latin typeface="Times New Roman"/>
                  </a:rPr>
                  <a:t>H</a:t>
                </a:r>
                <a:r>
                  <a:rPr b="0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 / T</a:t>
                </a:r>
                <a:r>
                  <a:rPr b="0" lang="es-ES_tradnl" sz="1600" spc="-1" strike="noStrike">
                    <a:solidFill>
                      <a:srgbClr val="ffffff"/>
                    </a:solidFill>
                    <a:latin typeface="Times New Roman"/>
                  </a:rPr>
                  <a:t>H</a:t>
                </a:r>
                <a:r>
                  <a:rPr b="0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 -  Q</a:t>
                </a:r>
                <a:r>
                  <a:rPr b="0" lang="es-ES_tradnl" sz="1600" spc="-1" strike="noStrike">
                    <a:solidFill>
                      <a:srgbClr val="ffffff"/>
                    </a:solidFill>
                    <a:latin typeface="Times New Roman"/>
                  </a:rPr>
                  <a:t>L</a:t>
                </a:r>
                <a:r>
                  <a:rPr b="0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 / T</a:t>
                </a:r>
                <a:r>
                  <a:rPr b="0" lang="es-ES_tradnl" sz="1600" spc="-1" strike="noStrike">
                    <a:solidFill>
                      <a:srgbClr val="ffffff"/>
                    </a:solidFill>
                    <a:latin typeface="Times New Roman"/>
                  </a:rPr>
                  <a:t>L</a:t>
                </a:r>
                <a:r>
                  <a:rPr b="0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= 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" name=""/>
            <p:cNvSpPr/>
            <p:nvPr/>
          </p:nvSpPr>
          <p:spPr>
            <a:xfrm flipH="1">
              <a:off x="2894760" y="6095880"/>
              <a:ext cx="381240" cy="304920"/>
            </a:xfrm>
            <a:prstGeom prst="ellipse">
              <a:avLst/>
            </a:prstGeom>
            <a:noFill/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A DESIGUALDAD DE CLAUSIU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QH= cantidad de calor que se suminist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= temperatura constante en la fronte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QL= cantidad de calor que se libera del sistema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L= temperatura constante en la fronte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362320" y="3505320"/>
            <a:ext cx="4703400" cy="2668320"/>
            <a:chOff x="2362320" y="3505320"/>
            <a:chExt cx="4703400" cy="2668320"/>
          </a:xfrm>
        </p:grpSpPr>
        <p:grpSp>
          <p:nvGrpSpPr>
            <p:cNvPr id="75" name=""/>
            <p:cNvGrpSpPr/>
            <p:nvPr/>
          </p:nvGrpSpPr>
          <p:grpSpPr>
            <a:xfrm>
              <a:off x="2362320" y="3505320"/>
              <a:ext cx="3581280" cy="2514600"/>
              <a:chOff x="2362320" y="3505320"/>
              <a:chExt cx="3581280" cy="2514600"/>
            </a:xfrm>
          </p:grpSpPr>
          <p:sp>
            <p:nvSpPr>
              <p:cNvPr id="76" name=""/>
              <p:cNvSpPr/>
              <p:nvPr/>
            </p:nvSpPr>
            <p:spPr>
              <a:xfrm>
                <a:off x="2438280" y="3505320"/>
                <a:ext cx="3200400" cy="53316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2362320" y="5486400"/>
                <a:ext cx="3200400" cy="53352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276720" y="4419720"/>
                <a:ext cx="1447560" cy="685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809880" y="4495680"/>
                <a:ext cx="3808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2091646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2091646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57600" y="5105520"/>
                <a:ext cx="990720" cy="609480"/>
              </a:xfrm>
              <a:prstGeom prst="downArrow">
                <a:avLst>
                  <a:gd name="adj1" fmla="val 77565"/>
                  <a:gd name="adj2" fmla="val 31509"/>
                </a:avLst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3657600" y="3886200"/>
                <a:ext cx="990720" cy="609480"/>
              </a:xfrm>
              <a:prstGeom prst="downArrow">
                <a:avLst>
                  <a:gd name="adj1" fmla="val 77565"/>
                  <a:gd name="adj2" fmla="val 31509"/>
                </a:avLst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24280" y="4267080"/>
                <a:ext cx="1219320" cy="914400"/>
              </a:xfrm>
              <a:prstGeom prst="rightArrow">
                <a:avLst>
                  <a:gd name="adj1" fmla="val 50000"/>
                  <a:gd name="adj2" fmla="val 33337"/>
                </a:avLst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5842440" y="3618360"/>
              <a:ext cx="58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T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5040" y="571392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T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69160" y="4647240"/>
              <a:ext cx="109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Wrev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3736800" y="388512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36080" y="510444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ara la máquina cíclica irreversible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2209680" y="1981080"/>
            <a:ext cx="5638320" cy="1447560"/>
            <a:chOff x="2209680" y="1981080"/>
            <a:chExt cx="5638320" cy="1447560"/>
          </a:xfrm>
        </p:grpSpPr>
        <p:grpSp>
          <p:nvGrpSpPr>
            <p:cNvPr id="90" name=""/>
            <p:cNvGrpSpPr/>
            <p:nvPr/>
          </p:nvGrpSpPr>
          <p:grpSpPr>
            <a:xfrm>
              <a:off x="2209680" y="1981080"/>
              <a:ext cx="5638320" cy="1447560"/>
              <a:chOff x="2209680" y="1981080"/>
              <a:chExt cx="5638320" cy="1447560"/>
            </a:xfrm>
          </p:grpSpPr>
          <p:sp>
            <p:nvSpPr>
              <p:cNvPr id="91" name=""/>
              <p:cNvSpPr/>
              <p:nvPr/>
            </p:nvSpPr>
            <p:spPr>
              <a:xfrm>
                <a:off x="3175560" y="2510640"/>
                <a:ext cx="4672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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Q =  Q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</a:rPr>
                  <a:t>H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  -  Q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</a:rPr>
                  <a:t>L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  &gt;  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209680" y="1981080"/>
                <a:ext cx="724680" cy="1447560"/>
              </a:xfrm>
              <a:custGeom>
                <a:avLst/>
                <a:gdLst/>
                <a:ahLst/>
                <a:rect l="l" t="t" r="r" b="b"/>
                <a:pathLst>
                  <a:path w="480" h="768">
                    <a:moveTo>
                      <a:pt x="480" y="56"/>
                    </a:moveTo>
                    <a:cubicBezTo>
                      <a:pt x="400" y="28"/>
                      <a:pt x="320" y="0"/>
                      <a:pt x="288" y="104"/>
                    </a:cubicBezTo>
                    <a:cubicBezTo>
                      <a:pt x="256" y="208"/>
                      <a:pt x="336" y="592"/>
                      <a:pt x="288" y="680"/>
                    </a:cubicBezTo>
                    <a:cubicBezTo>
                      <a:pt x="240" y="768"/>
                      <a:pt x="48" y="640"/>
                      <a:pt x="0" y="632"/>
                    </a:cubicBezTo>
                  </a:path>
                </a:pathLst>
              </a:custGeom>
              <a:noFill/>
              <a:ln w="63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2438280" y="2514600"/>
              <a:ext cx="381240" cy="533520"/>
            </a:xfrm>
            <a:prstGeom prst="ellipse">
              <a:avLst/>
            </a:prstGeom>
            <a:noFill/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286000" y="3869280"/>
            <a:ext cx="4494240" cy="1585800"/>
            <a:chOff x="2286000" y="3869280"/>
            <a:chExt cx="4494240" cy="1585800"/>
          </a:xfrm>
        </p:grpSpPr>
        <p:grpSp>
          <p:nvGrpSpPr>
            <p:cNvPr id="95" name=""/>
            <p:cNvGrpSpPr/>
            <p:nvPr/>
          </p:nvGrpSpPr>
          <p:grpSpPr>
            <a:xfrm>
              <a:off x="2286000" y="3869280"/>
              <a:ext cx="4494240" cy="1585800"/>
              <a:chOff x="2286000" y="3869280"/>
              <a:chExt cx="4494240" cy="1585800"/>
            </a:xfrm>
          </p:grpSpPr>
          <p:grpSp>
            <p:nvGrpSpPr>
              <p:cNvPr id="96" name=""/>
              <p:cNvGrpSpPr/>
              <p:nvPr/>
            </p:nvGrpSpPr>
            <p:grpSpPr>
              <a:xfrm>
                <a:off x="2286000" y="3869280"/>
                <a:ext cx="1295280" cy="1585800"/>
                <a:chOff x="2286000" y="3869280"/>
                <a:chExt cx="1295280" cy="158580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2995560" y="3869280"/>
                  <a:ext cx="585720" cy="155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1" lang="en-US" sz="2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</a:t>
                  </a: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Q ---    T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2286000" y="4288320"/>
                  <a:ext cx="457200" cy="1166760"/>
                </a:xfrm>
                <a:custGeom>
                  <a:avLst/>
                  <a:gdLst/>
                  <a:ahLst/>
                  <a:rect l="l" t="t" r="r" b="b"/>
                  <a:pathLst>
                    <a:path w="480" h="768">
                      <a:moveTo>
                        <a:pt x="480" y="56"/>
                      </a:moveTo>
                      <a:cubicBezTo>
                        <a:pt x="400" y="28"/>
                        <a:pt x="320" y="0"/>
                        <a:pt x="288" y="104"/>
                      </a:cubicBezTo>
                      <a:cubicBezTo>
                        <a:pt x="256" y="208"/>
                        <a:pt x="336" y="592"/>
                        <a:pt x="288" y="680"/>
                      </a:cubicBezTo>
                      <a:cubicBezTo>
                        <a:pt x="240" y="768"/>
                        <a:pt x="48" y="640"/>
                        <a:pt x="0" y="632"/>
                      </a:cubicBezTo>
                    </a:path>
                  </a:pathLst>
                </a:custGeom>
                <a:noFill/>
                <a:ln w="63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" name=""/>
              <p:cNvSpPr/>
              <p:nvPr/>
            </p:nvSpPr>
            <p:spPr>
              <a:xfrm>
                <a:off x="3057840" y="4715280"/>
                <a:ext cx="3722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    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=   Q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</a:rPr>
                  <a:t>H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/ T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</a:rPr>
                  <a:t>H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-  Q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</a:rPr>
                  <a:t>L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/ T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</a:rPr>
                  <a:t>L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&lt;  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2438280" y="4724280"/>
              <a:ext cx="304920" cy="381240"/>
            </a:xfrm>
            <a:prstGeom prst="ellipse">
              <a:avLst/>
            </a:prstGeom>
            <a:noFill/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ara ciclos de refrigeració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1160" y="2110320"/>
            <a:ext cx="230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versib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2133720" y="2666880"/>
            <a:ext cx="5638320" cy="1447560"/>
            <a:chOff x="2133720" y="2666880"/>
            <a:chExt cx="5638320" cy="1447560"/>
          </a:xfrm>
        </p:grpSpPr>
        <p:grpSp>
          <p:nvGrpSpPr>
            <p:cNvPr id="104" name=""/>
            <p:cNvGrpSpPr/>
            <p:nvPr/>
          </p:nvGrpSpPr>
          <p:grpSpPr>
            <a:xfrm>
              <a:off x="2133720" y="2666880"/>
              <a:ext cx="5638320" cy="1447560"/>
              <a:chOff x="2133720" y="2666880"/>
              <a:chExt cx="5638320" cy="1447560"/>
            </a:xfrm>
          </p:grpSpPr>
          <p:sp>
            <p:nvSpPr>
              <p:cNvPr id="105" name=""/>
              <p:cNvSpPr/>
              <p:nvPr/>
            </p:nvSpPr>
            <p:spPr>
              <a:xfrm>
                <a:off x="3099600" y="3196440"/>
                <a:ext cx="4672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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Q =  - Q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</a:rPr>
                  <a:t>H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  +  Q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</a:rPr>
                  <a:t>L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  &lt; 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133720" y="2666880"/>
                <a:ext cx="724320" cy="1447560"/>
              </a:xfrm>
              <a:custGeom>
                <a:avLst/>
                <a:gdLst/>
                <a:ahLst/>
                <a:rect l="l" t="t" r="r" b="b"/>
                <a:pathLst>
                  <a:path w="480" h="768">
                    <a:moveTo>
                      <a:pt x="480" y="56"/>
                    </a:moveTo>
                    <a:cubicBezTo>
                      <a:pt x="400" y="28"/>
                      <a:pt x="320" y="0"/>
                      <a:pt x="288" y="104"/>
                    </a:cubicBezTo>
                    <a:cubicBezTo>
                      <a:pt x="256" y="208"/>
                      <a:pt x="336" y="592"/>
                      <a:pt x="288" y="680"/>
                    </a:cubicBezTo>
                    <a:cubicBezTo>
                      <a:pt x="240" y="768"/>
                      <a:pt x="48" y="640"/>
                      <a:pt x="0" y="632"/>
                    </a:cubicBezTo>
                  </a:path>
                </a:pathLst>
              </a:custGeom>
              <a:noFill/>
              <a:ln w="63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2361960" y="3200400"/>
              <a:ext cx="380880" cy="533520"/>
            </a:xfrm>
            <a:prstGeom prst="ellipse">
              <a:avLst/>
            </a:prstGeom>
            <a:noFill/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209680" y="4112280"/>
            <a:ext cx="4618800" cy="1585800"/>
            <a:chOff x="2209680" y="4112280"/>
            <a:chExt cx="4618800" cy="1585800"/>
          </a:xfrm>
        </p:grpSpPr>
        <p:grpSp>
          <p:nvGrpSpPr>
            <p:cNvPr id="109" name=""/>
            <p:cNvGrpSpPr/>
            <p:nvPr/>
          </p:nvGrpSpPr>
          <p:grpSpPr>
            <a:xfrm>
              <a:off x="2209680" y="4112280"/>
              <a:ext cx="4618800" cy="1585800"/>
              <a:chOff x="2209680" y="4112280"/>
              <a:chExt cx="4618800" cy="1585800"/>
            </a:xfrm>
          </p:grpSpPr>
          <p:grpSp>
            <p:nvGrpSpPr>
              <p:cNvPr id="110" name=""/>
              <p:cNvGrpSpPr/>
              <p:nvPr/>
            </p:nvGrpSpPr>
            <p:grpSpPr>
              <a:xfrm>
                <a:off x="2209680" y="4112280"/>
                <a:ext cx="1295280" cy="1585800"/>
                <a:chOff x="2209680" y="4112280"/>
                <a:chExt cx="1295280" cy="158580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2919240" y="4112280"/>
                  <a:ext cx="585720" cy="155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1" lang="en-US" sz="2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</a:t>
                  </a: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Q ---    T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209680" y="4531320"/>
                  <a:ext cx="457200" cy="1166760"/>
                </a:xfrm>
                <a:custGeom>
                  <a:avLst/>
                  <a:gdLst/>
                  <a:ahLst/>
                  <a:rect l="l" t="t" r="r" b="b"/>
                  <a:pathLst>
                    <a:path w="480" h="768">
                      <a:moveTo>
                        <a:pt x="480" y="56"/>
                      </a:moveTo>
                      <a:cubicBezTo>
                        <a:pt x="400" y="28"/>
                        <a:pt x="320" y="0"/>
                        <a:pt x="288" y="104"/>
                      </a:cubicBezTo>
                      <a:cubicBezTo>
                        <a:pt x="256" y="208"/>
                        <a:pt x="336" y="592"/>
                        <a:pt x="288" y="680"/>
                      </a:cubicBezTo>
                      <a:cubicBezTo>
                        <a:pt x="240" y="768"/>
                        <a:pt x="48" y="640"/>
                        <a:pt x="0" y="632"/>
                      </a:cubicBezTo>
                    </a:path>
                  </a:pathLst>
                </a:custGeom>
                <a:noFill/>
                <a:ln w="63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3" name=""/>
              <p:cNvSpPr/>
              <p:nvPr/>
            </p:nvSpPr>
            <p:spPr>
              <a:xfrm>
                <a:off x="2857680" y="4959360"/>
                <a:ext cx="3970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    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=   - Q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</a:rPr>
                  <a:t>H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/ T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</a:rPr>
                  <a:t>H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+  Q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</a:rPr>
                  <a:t>L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/ T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</a:rPr>
                  <a:t>L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=  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2361960" y="4967280"/>
              <a:ext cx="304920" cy="381240"/>
            </a:xfrm>
            <a:prstGeom prst="ellipse">
              <a:avLst/>
            </a:prstGeom>
            <a:noFill/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ara ciclos de refrigeració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3080" y="1751760"/>
            <a:ext cx="253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rreversib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209680" y="2286000"/>
            <a:ext cx="5638320" cy="1447560"/>
            <a:chOff x="2209680" y="2286000"/>
            <a:chExt cx="5638320" cy="1447560"/>
          </a:xfrm>
        </p:grpSpPr>
        <p:grpSp>
          <p:nvGrpSpPr>
            <p:cNvPr id="118" name=""/>
            <p:cNvGrpSpPr/>
            <p:nvPr/>
          </p:nvGrpSpPr>
          <p:grpSpPr>
            <a:xfrm>
              <a:off x="2209680" y="2286000"/>
              <a:ext cx="5638320" cy="1447560"/>
              <a:chOff x="2209680" y="2286000"/>
              <a:chExt cx="5638320" cy="1447560"/>
            </a:xfrm>
          </p:grpSpPr>
          <p:sp>
            <p:nvSpPr>
              <p:cNvPr id="119" name=""/>
              <p:cNvSpPr/>
              <p:nvPr/>
            </p:nvSpPr>
            <p:spPr>
              <a:xfrm>
                <a:off x="3175560" y="2815560"/>
                <a:ext cx="4672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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Q =  - Q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</a:rPr>
                  <a:t>H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  +  Q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</a:rPr>
                  <a:t>L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  &lt; 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09680" y="2286000"/>
                <a:ext cx="724680" cy="1447560"/>
              </a:xfrm>
              <a:custGeom>
                <a:avLst/>
                <a:gdLst/>
                <a:ahLst/>
                <a:rect l="l" t="t" r="r" b="b"/>
                <a:pathLst>
                  <a:path w="480" h="768">
                    <a:moveTo>
                      <a:pt x="480" y="56"/>
                    </a:moveTo>
                    <a:cubicBezTo>
                      <a:pt x="400" y="28"/>
                      <a:pt x="320" y="0"/>
                      <a:pt x="288" y="104"/>
                    </a:cubicBezTo>
                    <a:cubicBezTo>
                      <a:pt x="256" y="208"/>
                      <a:pt x="336" y="592"/>
                      <a:pt x="288" y="680"/>
                    </a:cubicBezTo>
                    <a:cubicBezTo>
                      <a:pt x="240" y="768"/>
                      <a:pt x="48" y="640"/>
                      <a:pt x="0" y="632"/>
                    </a:cubicBezTo>
                  </a:path>
                </a:pathLst>
              </a:custGeom>
              <a:noFill/>
              <a:ln w="63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>
              <a:off x="2438280" y="2819520"/>
              <a:ext cx="381240" cy="533520"/>
            </a:xfrm>
            <a:prstGeom prst="ellipse">
              <a:avLst/>
            </a:prstGeom>
            <a:noFill/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2209680" y="3883680"/>
            <a:ext cx="4618800" cy="1585800"/>
            <a:chOff x="2209680" y="3883680"/>
            <a:chExt cx="4618800" cy="1585800"/>
          </a:xfrm>
        </p:grpSpPr>
        <p:grpSp>
          <p:nvGrpSpPr>
            <p:cNvPr id="123" name=""/>
            <p:cNvGrpSpPr/>
            <p:nvPr/>
          </p:nvGrpSpPr>
          <p:grpSpPr>
            <a:xfrm>
              <a:off x="2209680" y="3883680"/>
              <a:ext cx="4618800" cy="1585800"/>
              <a:chOff x="2209680" y="3883680"/>
              <a:chExt cx="4618800" cy="158580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2209680" y="3883680"/>
                <a:ext cx="1295280" cy="1585800"/>
                <a:chOff x="2209680" y="3883680"/>
                <a:chExt cx="1295280" cy="158580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2919240" y="3883680"/>
                  <a:ext cx="585720" cy="155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1" lang="en-US" sz="2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</a:t>
                  </a: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Q ---    T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2209680" y="4302720"/>
                  <a:ext cx="457200" cy="1166760"/>
                </a:xfrm>
                <a:custGeom>
                  <a:avLst/>
                  <a:gdLst/>
                  <a:ahLst/>
                  <a:rect l="l" t="t" r="r" b="b"/>
                  <a:pathLst>
                    <a:path w="480" h="768">
                      <a:moveTo>
                        <a:pt x="480" y="56"/>
                      </a:moveTo>
                      <a:cubicBezTo>
                        <a:pt x="400" y="28"/>
                        <a:pt x="320" y="0"/>
                        <a:pt x="288" y="104"/>
                      </a:cubicBezTo>
                      <a:cubicBezTo>
                        <a:pt x="256" y="208"/>
                        <a:pt x="336" y="592"/>
                        <a:pt x="288" y="680"/>
                      </a:cubicBezTo>
                      <a:cubicBezTo>
                        <a:pt x="240" y="768"/>
                        <a:pt x="48" y="640"/>
                        <a:pt x="0" y="632"/>
                      </a:cubicBezTo>
                    </a:path>
                  </a:pathLst>
                </a:custGeom>
                <a:noFill/>
                <a:ln w="63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2857680" y="4730760"/>
                <a:ext cx="3970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    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=   - Q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</a:rPr>
                  <a:t>H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/ T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</a:rPr>
                  <a:t>H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+  Q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</a:rPr>
                  <a:t>L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/ T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</a:rPr>
                  <a:t>L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&lt;  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>
              <a:off x="2361960" y="4738680"/>
              <a:ext cx="304920" cy="381240"/>
            </a:xfrm>
            <a:prstGeom prst="ellipse">
              <a:avLst/>
            </a:prstGeom>
            <a:noFill/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2T23:24:46Z</dcterms:created>
  <dc:creator>Alex Enrique Ramirez Otero</dc:creator>
  <dc:description/>
  <dc:language>en-US</dc:language>
  <cp:lastModifiedBy>SISTEMAS</cp:lastModifiedBy>
  <dcterms:modified xsi:type="dcterms:W3CDTF">2002-10-22T15:16:25Z</dcterms:modified>
  <cp:revision>7</cp:revision>
  <dc:subject/>
  <dc:title>Sin título de diapositiva</dc:title>
</cp:coreProperties>
</file>