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2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13.png" ContentType="image/png"/>
  <Override PartName="/ppt/media/image10.png" ContentType="image/png"/>
  <Override PartName="/ppt/media/image6.jpeg" ContentType="image/jpeg"/>
  <Override PartName="/ppt/media/image5.jpeg" ContentType="image/jpeg"/>
  <Override PartName="/ppt/media/image15.gif" ContentType="image/gif"/>
  <Override PartName="/ppt/media/image7.jpeg" ContentType="image/jpeg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2FEB-93F1-4147-9599-751DDAEAF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6642-3455-4699-8621-09B33343E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F673-FC30-4D03-9ACC-5C196E56E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3D97-9428-4EB7-A0F1-B3CB2CAAC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4A22A-F77B-4BCC-927C-57461E449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D1E66-E273-4FC0-ADF4-BE94F7BD5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44DFE-2438-4E55-A82E-2D7A6D2BF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CF139-3BA0-4FA2-9439-AFE00293E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2ACBF-2440-4C6F-BE59-8B7EBB90E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497FE-998B-466C-A939-B27531B6F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6A7C0-B3E9-438B-BA37-E5A83682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39DA-36AD-4718-A824-B6A336AD5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BC15E-ACB8-4F14-BB9A-F92C22A8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90A51-211B-4EC8-B9CB-327D31BD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EEC02-A135-4590-B832-C2D041023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44F0C-41B0-4709-B6B9-B4C8FF78E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DA067-F979-4433-9B42-2D08EBFF4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2CE5-9DF2-4CC8-9554-B1F2A57FD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328C-2D98-49CB-AAAF-A79B006FC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422A-F961-4C81-81D6-4A95F7EB5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6681-4B75-4FD7-A1DC-1724B2E10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ED22-A17D-409C-82FD-2849AF79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518D-E462-4A40-8200-9FD90027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419B-9FAA-4E86-AA74-C34716E9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4B7E7-8AC7-4E6E-877B-9915DF566BA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92F01-529A-4C47-9478-5D8BD912ED9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330033"/>
                </a:solidFill>
                <a:latin typeface="Times New Roman"/>
              </a:rPr>
              <a:t>DISPOSITIVOS DE INGENIERIA DE FLUJO PERMANENT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6043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Operan bajo las mismas condiciones durante largos período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Turbinas, Compresores, Intercambiadores de calor y Bomba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Se ilustran con ejemplos, los principios de: la conservación de la masa y la conservación de la energí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1547640" y="476280"/>
          <a:ext cx="5904000" cy="417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476280"/>
                    <a:ext cx="5904000" cy="41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3708360" y="1557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16360" y="2781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19640" y="2781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76720" y="371628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932360" y="242100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3851280" y="270792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258920" y="4869000"/>
          <a:ext cx="6913440" cy="158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4869000"/>
                    <a:ext cx="691344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0033"/>
                </a:solidFill>
                <a:latin typeface="Times New Roman"/>
              </a:rPr>
              <a:t>EJEMPLO INTERCAMBIADOR DE CALOR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-360" y="1413000"/>
            <a:ext cx="8893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Con agua se va a enfriar refrigerante 12 en un condensador. El refrigerante entra al condensador con una relación de flujo de masa de 6kg/min. a 1MPa y 70 °C y la abandona a 35 °C. el agua en enfriamiento entra a 300kPa y 15 °C y sale a 25 °C. Desprecie cualquier caída de presión, y determine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a) la relación de flujo de masa del agua en enfriamiento requerida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b) la relación de transferencia de calor del refrigerante al agu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330033"/>
                </a:solidFill>
                <a:latin typeface="Times New Roman"/>
              </a:rPr>
              <a:t>VÁLVULAS DE ESTRANGULAMIENTO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3516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ualquier tipo de dispositivo de restricción de fluj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A diferencia de las turbinas produce una disminución de presión sin implicar ningún trabaj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Son dispositivos pequeños y puede suponerse que el flujo a través de ellos será adiabátic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Algunas veces recibe el nombre de dispositivo isentálpic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2843280" y="1989000"/>
          <a:ext cx="3744720" cy="9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1989000"/>
                    <a:ext cx="3744720" cy="9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200" spc="-1" strike="noStrike">
                <a:solidFill>
                  <a:srgbClr val="330033"/>
                </a:solidFill>
                <a:latin typeface="Times New Roman"/>
              </a:rPr>
              <a:t>VÁLVULAS</a:t>
            </a:r>
            <a:endParaRPr b="0" lang="en-US" sz="6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916360" y="3502080"/>
          <a:ext cx="3743280" cy="78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16360" y="3502080"/>
                    <a:ext cx="374328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2987640" y="4797360"/>
          <a:ext cx="3745080" cy="905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4797360"/>
                    <a:ext cx="374508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330033"/>
                </a:solidFill>
                <a:latin typeface="Times New Roman"/>
              </a:rPr>
              <a:t>CÁMARAS DE MEZCLA</a:t>
            </a:r>
            <a:endParaRPr b="0" lang="en-US" sz="5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99640" y="1599840"/>
            <a:ext cx="79930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cción donde sucede el proceso de mezcl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si siempre están bien aisla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incipio de la conservación de la masa requiere que el flujo de masa entrantes sean iguales a la relación de flujo de masa de la mezcla sali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ergías totales de las corrientes entrantes y de la mezcla sali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3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6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9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330033"/>
                </a:solidFill>
                <a:latin typeface="Times New Roman"/>
              </a:rPr>
              <a:t>CÁMARAS MEZCLADORAS</a:t>
            </a:r>
            <a:endParaRPr b="0" lang="en-US" sz="50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547640" y="1916280"/>
          <a:ext cx="662472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916280"/>
                    <a:ext cx="662472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771640" y="836640"/>
            <a:ext cx="39610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330033"/>
                </a:solidFill>
                <a:latin typeface="Times New Roman"/>
              </a:rPr>
              <a:t>EJEMPLO DE VALVULAS DE ESTRANGULAMIENTO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86421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Entra refrigerante 12 al tubo capilar de un refrigerador como liquido saturado a 0.8 MPa y se estrangula a una presión de 0.12 MPa. Determine la calidad del refrigerante en el estado final y la reducción e temperatura durante este proceso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330033"/>
                </a:solidFill>
                <a:latin typeface="Times New Roman"/>
              </a:rPr>
              <a:t>EJEMPLO CAMARAS DE MEZCL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8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000000"/>
                </a:solidFill>
                <a:latin typeface="Arial"/>
              </a:rPr>
              <a:t>Considere una regadera común donde se mezcle agua caliente a 140 °F con agua fría a 50 °F. Si se desea suministrar una corriente permanente de agua caliente a 110 °F, determine la razón de la relación de flujo de masa del agua caliente respecto de la fría. Suponga que las perdidas térmicas de la cámara de mezcla son despreciables y que la mezcla se efectúa a una presión de 20 psi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330033"/>
                </a:solidFill>
                <a:latin typeface="Times New Roman"/>
              </a:rPr>
              <a:t>TOBERAS Y DIFUSORES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2447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ispositivo que aumenta la velocidad de un fluido a expensas de la pres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Área sección transversal &lt;&lt; en dirección del flujo, para subsónic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y supersónic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8320" y="1413000"/>
            <a:ext cx="40384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ispositivo que aumenta la presión de un fluido retardándo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n el área transversal ocurre lo contrario &gt;&gt;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659640" y="4724280"/>
          <a:ext cx="2089080" cy="171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59640" y="4724280"/>
                    <a:ext cx="208908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6443640" y="56419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17080" y="56419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995640" y="4941720"/>
          <a:ext cx="1944720" cy="161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5640" y="4941720"/>
                    <a:ext cx="1944720" cy="16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3419640" y="573408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651640" y="57340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9636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700" spc="-1" strike="noStrike">
                <a:solidFill>
                  <a:srgbClr val="330033"/>
                </a:solidFill>
                <a:latin typeface="Times New Roman"/>
              </a:rPr>
              <a:t>TERMINOS DE LA ECUACIÓN DE ENERGIA PARA TOBERAS Y DIFUSORES</a:t>
            </a:r>
            <a:endParaRPr b="0" lang="en-US" sz="3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8497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Q = 0; Debido a que el flujo permanece poco tiempo por las altas velocidades, entonces se considera adiabát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W = 0; No presentan trabajo por que son ductos apropiadamente y no tienen eje o resistenci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c = 0; Esto se debe a los grandes cambios de velocidades que experimenta el fluido al pas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p = 0; Como en casi ningún momento surgen cambios de elevación cuando hay un fluido, entonces se puede omit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71640" y="3933720"/>
            <a:ext cx="358560" cy="3272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H="1">
            <a:off x="1979640" y="3933720"/>
            <a:ext cx="71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042920" y="5445000"/>
            <a:ext cx="3603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330033"/>
                </a:solidFill>
                <a:latin typeface="Times New Roman"/>
              </a:rPr>
              <a:t>CARACTERISTICAS DE LAS VELOCIDAD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19640" y="1916280"/>
            <a:ext cx="1944360" cy="16128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843280" y="27082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32360" y="27082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419640" y="4149720"/>
            <a:ext cx="2089080" cy="17128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075280" y="5084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32000" y="5084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79640" y="2421000"/>
            <a:ext cx="89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95640" y="4726080"/>
            <a:ext cx="89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22920" y="242100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2 &gt;&gt; V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47260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2 &lt;&lt; V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1280" y="27756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330033"/>
                </a:solidFill>
                <a:latin typeface="Times New Roman"/>
              </a:rPr>
              <a:t>TURBINAS Y COMPRESORES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 las centrales de potencia de vapor, gas o hidroeléctricas, el dispositivo que lo acciona al generador eléctrico es la turb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os compresores, así como las bombas y los ventiladores, son dispositivos útiles para aumentar la presión de un flui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n compresor es capaz de comprimir el gas a presiones muy alt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340000" y="1989000"/>
            <a:ext cx="4762440" cy="37054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330033"/>
                </a:solidFill>
                <a:latin typeface="Times New Roman"/>
              </a:rPr>
              <a:t>TURBINA FRANCIS</a:t>
            </a:r>
            <a:endParaRPr b="0" lang="en-US" sz="50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87280" y="1773360"/>
            <a:ext cx="3000600" cy="18478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148360" y="1916280"/>
            <a:ext cx="3047760" cy="17334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3132000" y="4005360"/>
            <a:ext cx="3095640" cy="20192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330033"/>
                </a:solidFill>
                <a:latin typeface="Times New Roman"/>
              </a:rPr>
              <a:t>INTERCAMBIADOR DE CALOR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330033"/>
                </a:solidFill>
                <a:latin typeface="Times New Roman"/>
              </a:rPr>
              <a:t>INTERCAMBIADOR DE CALOR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8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000000"/>
                </a:solidFill>
                <a:latin typeface="Arial"/>
              </a:rPr>
              <a:t>Son dispositivos donde dos corrientes de fluido en movimiento intercambian calor sin mezclarse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8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000000"/>
                </a:solidFill>
                <a:latin typeface="Arial"/>
              </a:rPr>
              <a:t>Los intercambiadores se emplean en diversas industrias y presentan numerosos diseños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8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000000"/>
                </a:solidFill>
                <a:latin typeface="Arial"/>
              </a:rPr>
              <a:t>La forma más simple de un intercambiador de calor es la del intercambiador de doble tubo (también llamado de tubo y coraza)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619280" y="1557360"/>
            <a:ext cx="611964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4T05:10:13Z</dcterms:created>
  <dc:creator>JORGE 8A</dc:creator>
  <dc:description/>
  <dc:language>en-US</dc:language>
  <cp:lastModifiedBy>JORGE 8A</cp:lastModifiedBy>
  <dcterms:modified xsi:type="dcterms:W3CDTF">2002-09-25T01:47:39Z</dcterms:modified>
  <cp:revision>16</cp:revision>
  <dc:subject/>
  <dc:title>DISPOSITIVOS DE INGENIERIA DE FLUJO PERMANENTE</dc:title>
</cp:coreProperties>
</file>