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1463-F42A-45BC-BF3C-A7FB72D08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2211-7075-4E49-8541-04031A55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8C82-94F5-413F-9A2B-FDACF4FAE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1E5B-3840-4855-9FE9-ED9A02D56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9FC06-8371-42EC-B5F1-8A85615F8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891AF-22F3-453A-9A57-B0357681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CFDC8-3CEA-45DD-9468-E47220DA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1D306-3604-4405-B074-3B9BABCD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9D26C-BD10-4DEC-A3D4-7D456045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F84DC-5C41-4464-8B11-9DAA5FAE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BB60B-1C91-4E43-B7C4-0739242C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3AD4-0BB1-4342-8DF9-DB6B5788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B2ED9-1088-401B-811F-61C1009D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BE234-1430-4416-8B71-B8EE9BF0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9C963-BB82-4DD5-BB08-C032B911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58120-6EF5-4BD0-B56C-0F5A6ED3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72BAE-1A22-4F67-918D-550245DD2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E63F-2D00-464F-9422-63FD1686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408D-8340-416D-9A1D-BC0FBB42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476B-1C8E-4E17-934A-D3467FCD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7B90-8A14-42CD-A1A0-45F1A81E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01B3-57AA-4F0C-A406-A53FC21C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1E7C-98A7-4805-8338-7C235AC2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4AE4-9CC2-4F84-9328-90839C68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D6E3-E318-4480-B346-70F65572B3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86FD-17EB-46A6-AA21-0DE995C2AE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QUINAS FRIGORIFICAS Y BOMBAS DE CAL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76000" y="2997360"/>
            <a:ext cx="63356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otores Térmic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1763640" y="479736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47640" y="4869000"/>
            <a:ext cx="705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03280" y="4292640"/>
            <a:ext cx="6335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áquinas Frigorífic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uentes Térmica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enen las siguientes característica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única interacción de interés entre la fuente térmica y su entorno es la transferencia de cal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 temperatura permanece uniforme y constante durante un proc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000" y="620640"/>
            <a:ext cx="80643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transferencia de calor hacia desde la fuente térmica únicamente origina un incremento o disminución de la energía interna de la fue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a fuente térmica actúa como fuente o sumidero de cal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NUNCIADO DE KELVIN-PLANC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es posible que un dispositivo que funcione cíclicamente reciba energía mediante transferencia de calor solo desde una fuente térmica y entregue una cantidad equivalente de energía en forma de trabajo al entorn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99640" y="404640"/>
            <a:ext cx="676764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eliminación del condensador de una planta simple de potencia de vapor conduce a un PMM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835280" y="2936520"/>
            <a:ext cx="4724280" cy="2628720"/>
            <a:chOff x="1835280" y="2936520"/>
            <a:chExt cx="4724280" cy="2628720"/>
          </a:xfrm>
        </p:grpSpPr>
        <p:sp>
          <p:nvSpPr>
            <p:cNvPr id="156" name=""/>
            <p:cNvSpPr/>
            <p:nvPr/>
          </p:nvSpPr>
          <p:spPr>
            <a:xfrm rot="5400000">
              <a:off x="5092560" y="3755160"/>
              <a:ext cx="609120" cy="572040"/>
            </a:xfrm>
            <a:custGeom>
              <a:avLst/>
              <a:gdLst>
                <a:gd name="textAreaLeft" fmla="*/ 133920 w 609120"/>
                <a:gd name="textAreaRight" fmla="*/ 475200 w 609120"/>
                <a:gd name="textAreaTop" fmla="*/ 125640 h 572040"/>
                <a:gd name="textAreaBottom" fmla="*/ 446400 h 57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21120" y="4079520"/>
              <a:ext cx="6858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20720" y="3393720"/>
              <a:ext cx="914400" cy="68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749680" y="5222520"/>
              <a:ext cx="380520" cy="34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2977920" y="316512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977920" y="3165120"/>
              <a:ext cx="251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92520" y="3165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92520" y="430848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3130200" y="533700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2901600" y="40791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45160" y="4422600"/>
              <a:ext cx="914400" cy="342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TURBIN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87560" y="2936520"/>
              <a:ext cx="913680" cy="342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CALDER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30560" y="4993920"/>
              <a:ext cx="762120" cy="342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BOMB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92120" y="53370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15800" y="3508200"/>
              <a:ext cx="76212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87560" y="4993920"/>
              <a:ext cx="685440" cy="228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WB,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35280" y="3622320"/>
              <a:ext cx="685440" cy="456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Qs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120920" y="29365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673360" y="45370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25840" y="510840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64280" y="4651200"/>
              <a:ext cx="38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45320" y="3508200"/>
              <a:ext cx="151920" cy="228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83200" y="4422600"/>
              <a:ext cx="227880" cy="228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959360" y="4537080"/>
              <a:ext cx="228600" cy="342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73200" y="4879800"/>
              <a:ext cx="381240" cy="228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11640" y="5337000"/>
              <a:ext cx="38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5492520" y="51080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NUNCIADO DE CLAUSIU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imposible que un dispositivo cíclico funcione de tal manera que el único efecto sea transferir calor desde un cuerpo frió a otro a mayor temperatur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362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QUIVALENCIA DE LOS ENUNCIADOS DE KELVIN-PLANCK Y DE CLAUSIU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000" y="291960"/>
            <a:ext cx="821844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Para leer los ejercicios resueltos están en la pagina, a partir de las 10:30 pm de hoy: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usuarios.lycos.es/revistatrajin/termodi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otores Térmico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restricción a un ciclo periódico o circuito cerrado continuo implica que la sustancia del interior del dispositivo se devuelve a su estado inicial en intervalos regulares. En muchos casos, un dispositivo periódico es también un ciclo en el  mecán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iclo Periódic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908000" y="1989000"/>
            <a:ext cx="6264360" cy="41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258920" y="1413000"/>
            <a:ext cx="659592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ircuito Cerrad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26920" y="1557360"/>
            <a:ext cx="6840720" cy="4073400"/>
            <a:chOff x="826920" y="1557360"/>
            <a:chExt cx="6840720" cy="4073400"/>
          </a:xfrm>
        </p:grpSpPr>
        <p:sp>
          <p:nvSpPr>
            <p:cNvPr id="95" name=""/>
            <p:cNvSpPr txBox="1"/>
            <p:nvPr/>
          </p:nvSpPr>
          <p:spPr>
            <a:xfrm>
              <a:off x="826920" y="1557360"/>
              <a:ext cx="6840720" cy="4073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5400000">
              <a:off x="5128200" y="2939040"/>
              <a:ext cx="803880" cy="755280"/>
            </a:xfrm>
            <a:custGeom>
              <a:avLst/>
              <a:gdLst>
                <a:gd name="textAreaLeft" fmla="*/ 176760 w 803880"/>
                <a:gd name="textAreaRight" fmla="*/ 627120 w 803880"/>
                <a:gd name="textAreaTop" fmla="*/ 165960 h 755280"/>
                <a:gd name="textAreaBottom" fmla="*/ 589320 h 75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57280" y="3367440"/>
              <a:ext cx="905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31960" y="2462400"/>
              <a:ext cx="1207440" cy="90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53480" y="4725360"/>
              <a:ext cx="703800" cy="60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34360" y="4876200"/>
              <a:ext cx="502200" cy="45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2335680" y="2160720"/>
              <a:ext cx="0" cy="3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35680" y="2160720"/>
              <a:ext cx="331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55240" y="2160720"/>
              <a:ext cx="0" cy="75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655240" y="3669480"/>
              <a:ext cx="0" cy="105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536560" y="5027400"/>
              <a:ext cx="271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2234880" y="3367080"/>
              <a:ext cx="0" cy="150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56840" y="3820320"/>
              <a:ext cx="1207440" cy="45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URBIN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28160" y="1859040"/>
              <a:ext cx="1206360" cy="45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ALDER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36920" y="4574520"/>
              <a:ext cx="1005840" cy="45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OMB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57280" y="4876200"/>
              <a:ext cx="1609560" cy="60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ONDENSAD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29920" y="5027400"/>
              <a:ext cx="80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29480" y="2613240"/>
              <a:ext cx="1005840" cy="45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5655240" y="4574520"/>
              <a:ext cx="402840" cy="3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59680" y="4423680"/>
              <a:ext cx="1206360" cy="30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Qce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28160" y="4574520"/>
              <a:ext cx="905040" cy="30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WB,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6920" y="2764080"/>
              <a:ext cx="905040" cy="60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Qs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44440" y="1859040"/>
              <a:ext cx="0" cy="60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33560" y="3971160"/>
              <a:ext cx="70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47280" y="4725360"/>
              <a:ext cx="0" cy="45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53920" y="4122000"/>
              <a:ext cx="50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744360" y="2613240"/>
              <a:ext cx="200520" cy="30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38160" y="3820320"/>
              <a:ext cx="300960" cy="30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4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951440" y="3971160"/>
              <a:ext cx="302040" cy="45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45680" y="4423680"/>
              <a:ext cx="503280" cy="30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3151080" y="1214640"/>
            <a:ext cx="2702880" cy="4677840"/>
            <a:chOff x="3151080" y="1214640"/>
            <a:chExt cx="2702880" cy="4677840"/>
          </a:xfrm>
        </p:grpSpPr>
        <p:sp>
          <p:nvSpPr>
            <p:cNvPr id="126" name=""/>
            <p:cNvSpPr/>
            <p:nvPr/>
          </p:nvSpPr>
          <p:spPr>
            <a:xfrm>
              <a:off x="3151080" y="1214640"/>
              <a:ext cx="831960" cy="727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Fuente a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lta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Temperatur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51080" y="3189960"/>
              <a:ext cx="970560" cy="935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Mot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Térmic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20560" y="4853160"/>
              <a:ext cx="1108800" cy="1039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Sumidero a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Baja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Temperatur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67240" y="2046240"/>
              <a:ext cx="0" cy="10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36720" y="4229280"/>
              <a:ext cx="0" cy="62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52160" y="3813480"/>
              <a:ext cx="145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83040" y="4437360"/>
              <a:ext cx="831960" cy="311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Qce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13560" y="2150280"/>
              <a:ext cx="970560" cy="311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Qs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60960" y="3397680"/>
              <a:ext cx="693000" cy="311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Wnet,s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Rendimiento Térmico 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sta definido p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η = Qcal,sum – Qcon,ced  /  Qcal,sum 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η = Wnet,sal / Qs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91520" cy="17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quinas Frigoríficas y Bombas de cal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584880" y="2416680"/>
            <a:ext cx="2356200" cy="4078440"/>
            <a:chOff x="3584880" y="2416680"/>
            <a:chExt cx="2356200" cy="4078440"/>
          </a:xfrm>
        </p:grpSpPr>
        <p:sp>
          <p:nvSpPr>
            <p:cNvPr id="138" name=""/>
            <p:cNvSpPr/>
            <p:nvPr/>
          </p:nvSpPr>
          <p:spPr>
            <a:xfrm>
              <a:off x="3584880" y="2416680"/>
              <a:ext cx="725040" cy="634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Fuente a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Alta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Temperatur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84880" y="4138920"/>
              <a:ext cx="846000" cy="815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Maquina frig. O bomba de cal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645360" y="5589000"/>
              <a:ext cx="966240" cy="906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Fuente 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Baja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Temperatur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09920" y="5135760"/>
              <a:ext cx="725040" cy="362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Qs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49440" y="3232440"/>
              <a:ext cx="846000" cy="271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Qce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37000" y="4320000"/>
              <a:ext cx="604080" cy="271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Wnet,s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947760" y="3051000"/>
              <a:ext cx="0" cy="108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491000" y="4501440"/>
              <a:ext cx="7844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008240" y="4954680"/>
              <a:ext cx="0" cy="63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eficiente de Actuació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ara Maquinas Frigoríficas :                 COP mf = Qsum / Wnet,ent = Qsum / Qced – Qs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ara Bomba de Calor :                       COP bc = Qced / wnet,ent  = Qced / Qced - Qs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01:15:21Z</dcterms:created>
  <dc:creator>Flia. Jurado</dc:creator>
  <dc:description/>
  <dc:language>en-US</dc:language>
  <cp:lastModifiedBy>Flia. Jurado</cp:lastModifiedBy>
  <dcterms:modified xsi:type="dcterms:W3CDTF">2002-10-11T14:16:01Z</dcterms:modified>
  <cp:revision>19</cp:revision>
  <dc:subject/>
  <dc:title>MAQUINAS FRIGORIFICAS Y BOMBAS DE CALOR</dc:title>
</cp:coreProperties>
</file>