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B80-4AD9-4FA2-A52B-ECA89C49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B54-8E95-40B2-9926-0BA32430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15F-3DA4-41A8-A543-C88567B2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401-2D0D-4F86-BCD2-37AA167B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17E-08E7-4F01-9B6A-1BA6C45D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6D5-A0A5-4E1C-A4CB-13445574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5B5-8EEC-481B-95CE-0A37072E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6A7-B2E8-4A23-8D36-CB4B0549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CCF-0646-4BD2-829D-D40D3654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AD5-AC26-4BFC-B3A1-F9591E6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9EC-9DEE-451C-85BA-D9F15B4A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1AF-673D-4496-81BF-BB3574E5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0BB8-9160-41B4-82B3-73BF86BF9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7621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SEGUNDA LEY DE LA TERMODINA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0680" y="1905120"/>
            <a:ext cx="7370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cesos termodinamicos se dan en cierta dire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y no en cualquier dir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nergia tiene calidad así como cant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2920" y="3952800"/>
            <a:ext cx="38595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DEPOSITOS DE ENE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mid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43840" y="91440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MAQUINAS TER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9840" y="198108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I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04560" y="2590920"/>
            <a:ext cx="624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ciben calor de una fuente de alt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3320" y="3200400"/>
            <a:ext cx="51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vierte parte de este calor en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8280" y="3886200"/>
            <a:ext cx="328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ibera calor de des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70640" y="4572000"/>
            <a:ext cx="26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peran en un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3520" y="407880"/>
          <a:ext cx="7848360" cy="584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7880"/>
                    <a:ext cx="784836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69640" y="736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TRABAJO 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362320"/>
            <a:ext cx="70261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RENDIMIENTO O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alida des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ndimiento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trada reque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Wneto,sal                                      Q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=         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= 1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en                                           Q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343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5257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5257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48120" y="1371600"/>
            <a:ext cx="347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Wneto,sal = Qsal – Wen  (K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Wneto,sal = Qen – Qsal (K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1752480"/>
            <a:ext cx="666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dispositivos ciclicos de interes practico oper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tre un medio de alta temperatura T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y uno de baja temperatura T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Wneto, sal = Q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– Q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Wneto,sal                                        Q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=        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= 1 –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                                           Q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03:42:09Z</dcterms:created>
  <dc:creator>YARIV</dc:creator>
  <dc:description/>
  <dc:language>en-US</dc:language>
  <cp:lastModifiedBy>YARIV</cp:lastModifiedBy>
  <dcterms:modified xsi:type="dcterms:W3CDTF">2002-10-11T04:31:51Z</dcterms:modified>
  <cp:revision>2</cp:revision>
  <dc:subject/>
  <dc:title>Presentación de PowerPoint</dc:title>
</cp:coreProperties>
</file>